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Num" idx="40"/>
          </p:nvPr>
        </p:nvSpPr>
        <p:spPr>
          <a:xfrm>
            <a:off x="6469200" y="9495720"/>
            <a:ext cx="2556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5C9142-E6E3-49E4-83A3-F4B80A02AC6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-1741680" y="318600"/>
            <a:ext cx="1117116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56880" y="9343440"/>
            <a:ext cx="57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tzte S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417-F644-49ED-A9DC-247720F7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7E3-A2C8-4E00-B21E-2EF88D8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9D1D4-1F17-4D8F-AA24-E2A9279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E8A45-2E1C-4CE8-904E-EB7A104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D065B-D60C-4490-8F7B-9C5824B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5C86F-4ECC-4A62-A2FE-74A2D5D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E4E29-B9ED-403F-9558-0972BE6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4D4FD-BD7F-4999-BF7A-E188134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9DD0-90CA-416C-B52B-8C70D4C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90D7-2E6C-45D1-82F8-E10FAB80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6D79-4B88-4F93-85B0-195A18D3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D2CB-6A87-4CA3-A1D3-8AAEBD78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68E-0720-4BB4-A28D-4110E471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E77EF-FC98-4A59-A62D-5A3D66A9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EBCF6-2B62-465D-888C-9BAA14A3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58B70-A639-427F-870E-AF49293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759D1-3FE1-4744-A7AE-B33B432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581B7-C20A-4C91-A874-1CF6B77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B9498-2ADA-401C-91B4-38BC962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05E91-9251-4F42-A056-10C3ED93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8A95C-29F1-4CCB-8BB9-AC2F625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1E52F-9E8B-4BA2-80AF-1D850A0E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C787F-C148-4BEF-9AA5-FBBEDA67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CF3-12EF-483C-AF8B-8CA18B33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A8CDE-0760-4392-B9D7-D91A1909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115A5-EEE3-4548-8D5E-B7411844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2732E-E812-49AA-A4D4-288050F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F629F-469F-4D8E-97B8-F4BD592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1541-D269-414D-977B-252DF320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6A4A-DEC8-4222-87E6-55292A1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99244-D36C-4EDB-B56E-AE07283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298B5-6783-4B1C-B481-71EE388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913D4-DD25-4CA7-B539-0A3A287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94955-8BEC-4AEF-B660-56E29FA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709-F7F0-4198-AB55-E91B8EA6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D6BE4-FE5E-4CA5-8774-04462DB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9E4A-478B-4BC5-A4C5-EAEE19AC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A84A-A115-4BBD-8496-A0EC899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FD37A-15AB-418F-9793-0097925B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E1887-09AB-4E65-8F48-C37D5E2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F0698-060F-4635-B358-26964C2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D5EA6-A5E9-44F7-B70A-D185F921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0E67E-B909-4FDC-B414-3D9FCA98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E0C50-4A37-44A4-AB9D-6A0A914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73E9D-BBA0-4B45-9505-B4E77B87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F55-DDAF-4B4C-8BC6-39354EB4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38053-04C9-4A25-9399-898754E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E4429-7236-45B5-B3A4-C37CC05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F50ED-CA9D-445E-8437-657FD7D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3ECB5-D868-4D2E-9D0A-CF7D7AD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3026E-728C-49EE-830B-71F005F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5AE26-52A1-43CA-9646-EEF22723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E50F9-BC84-44DE-8436-154E769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331D6-1837-4692-BC6C-2697DF45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8F600-EFE6-4523-B950-670B46C5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EF3DD-06CA-43A6-9DEC-154F10CD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B05-1982-409F-A25E-C9D3DA5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73D53-E60C-48C3-90B2-F38F06E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2D646-1FD7-4B73-9FB2-4135508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C8501-DA62-4A68-86F1-8D19D32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F4023-B8F7-4B05-BC66-4EC4E79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EBBAD-D4D9-4145-9C6B-CC9C1F00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0975C-B788-4FAB-83EA-47AADB6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D68E5-E33E-413F-88F0-088E8316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29E-9EAA-4B24-A7CB-4C7DFF9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082A-F8D5-4044-82FA-36FA4F4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303-64D5-459D-9806-07B7DFFA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E05-CEF4-4D5D-A9EE-C514BB6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F17-893B-4320-BBB4-ADC0638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322-063E-4E8D-B1FA-BCEAA2B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E9C-1BC0-4F19-BA05-B771471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2AE9-CDFF-4AE8-80AB-07B8F19C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E6F6-B49C-4D48-8AF1-EEBCB2B2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D551-9F8B-4FC2-A390-948D6783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9BEE-5A2F-45C4-A6B2-4E123BB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9AEE-43F4-49B7-AD9E-683FF253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6067-EFBC-4FB7-9337-D742DB2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4E55-F541-48EC-8FB2-809E8411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4990-EC4E-4AA7-B225-9735D92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568-1A56-4363-8F64-08B6B4F2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958D-4E70-4865-B0CE-23C6413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0F20-65E0-49E9-89FC-C8DF424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EE9F-FC1F-4DB7-ABF8-945C5B5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A162-F1AB-4DF1-BC4F-3CCFD75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1FA0-7D2B-4AE6-8765-E939E7E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ABAE-343B-4B8A-A4A8-73E09D35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C89E-D85A-44FC-8971-B4D93F7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653A-C187-4C80-A72A-8D104C2B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07E6-DC1D-4F16-9AEA-AF651E01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4781-AB8B-4DCD-8393-DF70E703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488-091C-493E-A967-A41AEA4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F737-5C18-4178-912A-E9F0EFF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B8AC-5727-43B4-84E2-0902B5A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A5A4-CBFB-4751-99BE-1CE5B51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0222-38A1-4F14-B915-DDC24AD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A622-C17F-42EC-B72C-EDF2352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BBA1-5463-4A1B-899D-F72A1DB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A191-AE8C-4D3A-9381-4E0090F5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7B0E-A428-486F-B317-00311ED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43F6-4309-48AD-A265-9BD345F2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C848-EC53-4A81-95DD-D836C049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447-C7F1-4DF9-9B29-D8955FB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A400-0669-4F12-9A0E-B223E0B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FDA2-E10A-4896-BBB9-2B9C66FD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4E0B-60CE-40ED-A6C7-5D0FFC9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B5B7-EF98-4D09-A402-743EC10E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23E3-6F60-49C2-ACB8-CC9617F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0329-EBC3-4097-BBBE-AC67950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8ECC-B2B2-49F7-8006-1A0BD4C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10FE-DB0E-4A3A-9D44-CB96A23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B56A-8E8F-4368-86C7-141443C7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E0CE-06C7-4575-91DD-4837270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F8E-0879-4568-BF51-6CF6866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EC61-E666-46DA-AE79-51FC8627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FDEB-B216-45E5-88C8-85F8072E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51F4-9A5C-4951-821B-8F3D2A29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CFA1-7E93-44E9-8014-B7C3351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36FCC-E07E-4972-8889-B8379A18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6DFA-0E19-4480-8050-30C7030B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959C4-209C-47A5-96D5-07C73FF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0FC2-DC81-4BEC-A320-68E17DE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297F-2EE9-4F79-95EE-1C87025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5C5F7-18CD-4A8E-BE9F-A14F4AA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629-D692-47F9-80D1-7D6CAB9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83A0-90C2-423B-B59A-638497C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FEBA5-2E23-4DAD-BC0E-B91AA754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06F2E-18B1-4BE0-B2B1-F550C6BA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571E-62AC-4325-8C25-9D9C018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BAB3-97CC-421A-A6A1-A15818A1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5B8C-6CE2-4952-8682-100692C3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66F4-045E-4034-A782-300B77A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EABC-C53B-4CEA-9B4B-37AC2C0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B0FE-763A-4105-A7D9-DC8602D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1E2A-EDD5-4F92-A095-1EC6819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60E-A2B6-4523-8253-219D3B7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60D8-012F-4632-8DF0-1E07805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7D96-54B3-47E2-B6D7-D1B21CE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E7AB-372A-4213-987E-7D15F23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BFDA-3E9B-4D96-BE58-EC5B4BB8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4AED-6229-4979-8BD9-0FC55C47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138E-4D41-4294-BD59-F734E1F6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5C93-698C-4D0F-A7CE-841F240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D9142-44CD-44A1-A807-677F1959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B7B4-AEB6-4FCB-BFEA-B9631C9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F308-B92A-442D-9A27-9D49FD2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2BF-3F71-4D3C-B816-072F98A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E5CE6-7C58-45B9-A6AE-06B63995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D2F93-AAA3-4B5D-9901-D93813F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C3CE0-A8C5-44AF-8FB2-C7F23AD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3F22-52CE-45CC-B4DF-CB0225EA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7C2F-F34E-45C1-9582-5233E3E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11A0-E9D6-4CF8-BB99-7607C1F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D555D-B2B8-46F4-9E1D-C3636F79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1B3E9-92FA-4B9C-90B7-95C9C0E5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50E3-0268-492C-BDE0-61412B2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C2DAA-E05A-454D-8A38-7434A043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C60-5E30-40CC-84C9-DF88F3439772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7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0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325-224C-4ACD-80D5-9BDE88DC0027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5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8A9-64D3-42C6-A626-5D58B74E893F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9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6C9-B272-4E32-AD3A-CB164BA35601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54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6437-DA48-44D7-B78A-B8C5C144FA29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14400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1" b="0"/>
          <a:stretch/>
        </p:blipFill>
        <p:spPr>
          <a:xfrm>
            <a:off x="898560" y="585720"/>
            <a:ext cx="739296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 rot="16200000">
            <a:off x="-122760" y="5505840"/>
            <a:ext cx="717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99640" y="6426360"/>
            <a:ext cx="4211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93320" y="654768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625D-7B63-4C89-8E76-87901D822F2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9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638A-347A-49B6-918D-660C27364C81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3F51-2E7F-4F93-8752-31D28021388A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8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2232-16E1-406A-8AC0-4F3900C15398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2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414-5D06-4A4B-8F67-E4592318FF72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7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668-9A2C-490A-9FAB-6B656A179F4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1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432-E50C-4D40-9996-7F4BF22A54C5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6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5F15-C5EE-4DAD-B4B6-DB95C15BC2FE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6"/>
          <p:cNvSpPr/>
          <p:nvPr/>
        </p:nvSpPr>
        <p:spPr>
          <a:xfrm>
            <a:off x="406440" y="3097080"/>
            <a:ext cx="8307360" cy="3022560"/>
          </a:xfrm>
          <a:prstGeom prst="roundRect">
            <a:avLst>
              <a:gd name="adj" fmla="val 7065"/>
            </a:avLst>
          </a:prstGeom>
          <a:solidFill>
            <a:srgbClr val="58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National and EU Activitie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on the Inspection of Chemical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ja vom Hofe, BAu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09520" y="6392880"/>
            <a:ext cx="7209000" cy="341280"/>
          </a:xfrm>
          <a:prstGeom prst="roundRect">
            <a:avLst>
              <a:gd name="adj" fmla="val 7065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sit of the Ministry of Environment of Brazil – 10 April 2013 – BAuA,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194-BF07-458D-ABF7-F4449A00B70E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87240" y="1643040"/>
            <a:ext cx="806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triggered by information received from / through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 rot="21154200">
            <a:off x="1125360" y="326232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market surveillanc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425680" y="430992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other inspection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1" name="Text Box 21"/>
          <p:cNvSpPr/>
          <p:nvPr/>
        </p:nvSpPr>
        <p:spPr>
          <a:xfrm rot="21157800">
            <a:off x="1173240" y="54658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2" name="Text Box 23"/>
          <p:cNvSpPr/>
          <p:nvPr/>
        </p:nvSpPr>
        <p:spPr>
          <a:xfrm rot="475200">
            <a:off x="6032160" y="46594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ac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3" name="Text Box 24"/>
          <p:cNvSpPr/>
          <p:nvPr/>
        </p:nvSpPr>
        <p:spPr>
          <a:xfrm rot="591600">
            <a:off x="5196960" y="329580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4911840" y="551016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in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 rot="21150000">
            <a:off x="809640" y="30351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 rot="618000">
            <a:off x="4820760" y="305388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 rot="487800">
            <a:off x="5648400" y="443232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 rot="21150000">
            <a:off x="816120" y="52149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1719360" y="4130640"/>
            <a:ext cx="3208320" cy="8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1951200" y="404820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4500720" y="526104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3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3683-7CDE-41F7-AADF-0C83DB4A1400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84280" y="1743120"/>
            <a:ext cx="7597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ools of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formation and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uidance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 dutyhold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dministrative interven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panies are often willing to collaborate with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auth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mon goal: registrants’ compliance 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cases of non-compliance: administrative orde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880" y="454320"/>
            <a:ext cx="80748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290" descr=""/>
          <p:cNvPicPr/>
          <p:nvPr/>
        </p:nvPicPr>
        <p:blipFill>
          <a:blip r:embed="rId1"/>
          <a:srcRect l="0" t="0" r="5039" b="0"/>
          <a:stretch/>
        </p:blipFill>
        <p:spPr>
          <a:xfrm rot="1156800">
            <a:off x="7768800" y="2452680"/>
            <a:ext cx="882720" cy="1006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91" descr=""/>
          <p:cNvPicPr/>
          <p:nvPr/>
        </p:nvPicPr>
        <p:blipFill>
          <a:blip r:embed="rId2"/>
          <a:srcRect l="0" t="0" r="5039" b="0"/>
          <a:stretch/>
        </p:blipFill>
        <p:spPr>
          <a:xfrm rot="874200">
            <a:off x="7515000" y="2487240"/>
            <a:ext cx="917280" cy="1025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92" descr="reach1"/>
          <p:cNvPicPr/>
          <p:nvPr/>
        </p:nvPicPr>
        <p:blipFill>
          <a:blip r:embed="rId3"/>
          <a:stretch/>
        </p:blipFill>
        <p:spPr>
          <a:xfrm>
            <a:off x="7253280" y="2549520"/>
            <a:ext cx="1058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2B9-9D5B-4438-A4FA-CC36C16454C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566640" y="1701720"/>
            <a:ext cx="796284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erman objectiv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Need to be ensured at national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and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EU level !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t national and EU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9"/>
          <p:cNvSpPr/>
          <p:nvPr/>
        </p:nvSpPr>
        <p:spPr>
          <a:xfrm rot="10800000">
            <a:off x="928440" y="5241600"/>
            <a:ext cx="377640" cy="228600"/>
          </a:xfrm>
          <a:prstGeom prst="leftArrow">
            <a:avLst>
              <a:gd name="adj1" fmla="val 50009"/>
              <a:gd name="adj2" fmla="val 5899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5337-B604-4C35-A9EF-4843F35FB38B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723960" y="1504800"/>
            <a:ext cx="809604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um for Exchange of Information on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ody of the European Chemicals Agency, ECH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ne member from each of the 27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+ non-voting members from the European Commiss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rmonization of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REACH, CLP and PI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the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e For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5829480" y="4805280"/>
            <a:ext cx="2701800" cy="1089000"/>
          </a:xfrm>
          <a:prstGeom prst="rect">
            <a:avLst/>
          </a:prstGeom>
          <a:ln w="1260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A07-AC9E-4026-AA2A-9214E119445A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596880" y="1676520"/>
            <a:ext cx="80154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ifferent legal systems in 27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Varying organizational structur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petencies within different authorities (MSCA / NEA*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ystems of sanctions / penal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19240" y="4957920"/>
            <a:ext cx="8451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ed approach to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= comparable enforcement,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no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uniform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9"/>
          <p:cNvSpPr/>
          <p:nvPr/>
        </p:nvSpPr>
        <p:spPr>
          <a:xfrm>
            <a:off x="1697040" y="5094360"/>
            <a:ext cx="277920" cy="152280"/>
          </a:xfrm>
          <a:prstGeom prst="rightArrow">
            <a:avLst>
              <a:gd name="adj1" fmla="val 64963"/>
              <a:gd name="adj2" fmla="val 4584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75" name="Picture 12" descr=""/>
          <p:cNvPicPr/>
          <p:nvPr/>
        </p:nvPicPr>
        <p:blipFill>
          <a:blip r:embed="rId1"/>
          <a:stretch/>
        </p:blipFill>
        <p:spPr>
          <a:xfrm>
            <a:off x="6956280" y="1793880"/>
            <a:ext cx="1857600" cy="1181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3102120" y="3803760"/>
            <a:ext cx="544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*MSCA = Member State Competent Authority, NEA = National Enforcement Authority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374-4078-4C63-9863-0008C5717653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731880" y="1463760"/>
            <a:ext cx="8015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Practical solu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evelopment of best practice docum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xchange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ed enforceme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nnual “Train-the-Trainers” ev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Manual with “practical cases” and Forum conclus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mon Information Exchange System (IT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EU_flags"/>
          <p:cNvPicPr/>
          <p:nvPr/>
        </p:nvPicPr>
        <p:blipFill>
          <a:blip r:embed="rId1"/>
          <a:srcRect l="0" t="52906" r="0" b="17276"/>
          <a:stretch/>
        </p:blipFill>
        <p:spPr>
          <a:xfrm>
            <a:off x="1193760" y="5218200"/>
            <a:ext cx="3583080" cy="728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1" descr="Flag_of_Europe"/>
          <p:cNvPicPr/>
          <p:nvPr/>
        </p:nvPicPr>
        <p:blipFill>
          <a:blip r:embed="rId2"/>
          <a:stretch/>
        </p:blipFill>
        <p:spPr>
          <a:xfrm>
            <a:off x="6178680" y="5267160"/>
            <a:ext cx="1047600" cy="6987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12"/>
          <p:cNvSpPr/>
          <p:nvPr/>
        </p:nvSpPr>
        <p:spPr>
          <a:xfrm>
            <a:off x="5224320" y="5491080"/>
            <a:ext cx="406440" cy="217440"/>
          </a:xfrm>
          <a:prstGeom prst="rightArrow">
            <a:avLst>
              <a:gd name="adj1" fmla="val 50000"/>
              <a:gd name="adj2" fmla="val 46730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Espaço Reservado para Rodapé 3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5" name="Espaço Reservado para Número de Slide 4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C7A-BB90-468A-8088-E64633026B4F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6" name="AutoShape 2"/>
          <p:cNvSpPr/>
          <p:nvPr/>
        </p:nvSpPr>
        <p:spPr>
          <a:xfrm>
            <a:off x="476280" y="371520"/>
            <a:ext cx="8292960" cy="2336760"/>
          </a:xfrm>
          <a:prstGeom prst="roundRect">
            <a:avLst>
              <a:gd name="adj" fmla="val 6181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18040" y="1070640"/>
            <a:ext cx="8223840" cy="775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hank you for listening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3240000" y="2911320"/>
            <a:ext cx="5505480" cy="2536920"/>
          </a:xfrm>
          <a:prstGeom prst="roundRect">
            <a:avLst>
              <a:gd name="adj" fmla="val 6181"/>
            </a:avLst>
          </a:prstGeom>
          <a:noFill/>
          <a:ln w="3816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560760" y="3009960"/>
            <a:ext cx="503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Katja vom Hof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Institute for Occupational Safety and Health (BAuA)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Office for Chemical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riedrich-Henkel-Weg 1-25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-44149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hemG@baua.bund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urther Information:  </a:t>
            </a: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70A-866D-49CA-A569-6D5F5E3BF7DF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701640" y="1577880"/>
            <a:ext cx="771228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National Activities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trategi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nforcement Activities in German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International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e Forum of the European Chemicals Agenc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ation of Enforcement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8199-26C3-45F9-A57A-D026E023D33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17400" y="1519200"/>
            <a:ext cx="8096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16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responsible for th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Chemicals Legisl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cording to the German Chemicals Ac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independent with regard to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structures, strategies and pri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different geographic, industrial and economic situa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Northrhine-Westphalia:  17,8 million inhabitants, focus: manufactur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Hamburg:  500.000 inhabitants, focus: impor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 rot="5400000">
            <a:off x="8064000" y="3394080"/>
            <a:ext cx="100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Map: NordNordWest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02" name="Picture 15" descr=""/>
          <p:cNvPicPr/>
          <p:nvPr/>
        </p:nvPicPr>
        <p:blipFill>
          <a:blip r:embed="rId1"/>
          <a:stretch/>
        </p:blipFill>
        <p:spPr>
          <a:xfrm>
            <a:off x="6719760" y="1606680"/>
            <a:ext cx="1776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110-3A00-4D65-AE4F-CDCEE7B93CA3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593280" y="1528560"/>
            <a:ext cx="7899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Tasks of the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Organization of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nat’l enforcement authorities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(NEA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t relevant levels (ministry / regional / district leve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Provision of personal and financial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resourc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Education and training</a:t>
            </a: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f enforc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qualification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Information and guidance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for dutyholders (optiona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11360" y="560556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operation and harmonization need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1320840" y="573732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584C-5C4C-48E5-8C9D-9B0EF6D078C6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12800" y="1465200"/>
            <a:ext cx="7866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ation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Working Committee of the Federal Govern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nd the States on Chemical Safety  (BLAC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xchange of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ordination of joi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wareness raising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ment of a common enforcement strateg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rcRect l="0" t="0" r="6301" b="0"/>
          <a:stretch/>
        </p:blipFill>
        <p:spPr>
          <a:xfrm>
            <a:off x="6748560" y="3483000"/>
            <a:ext cx="1336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5B3-3B96-401B-8BFD-B5BA456940D6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2720" y="1590840"/>
            <a:ext cx="79930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y for the Market Surveillance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ed and revised by BLA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 strategies for each Federal State –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flect the specific conditions in each stat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ramework strategies: leave room for additiona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spections triggered by up-to-date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ies are regularly revised and adapt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9240" y="535788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rcRect l="0" t="0" r="3151" b="0"/>
          <a:stretch/>
        </p:blipFill>
        <p:spPr>
          <a:xfrm>
            <a:off x="7394400" y="230508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1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32BB-4539-4DED-ADDC-17E0A00BA6C5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574560" y="1481040"/>
            <a:ext cx="79628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ormulator"/>
          <p:cNvPicPr/>
          <p:nvPr/>
        </p:nvPicPr>
        <p:blipFill>
          <a:blip r:embed="rId1"/>
          <a:srcRect l="0" t="6121" r="5968" b="3060"/>
          <a:stretch/>
        </p:blipFill>
        <p:spPr>
          <a:xfrm>
            <a:off x="4110120" y="1519200"/>
            <a:ext cx="4195800" cy="2633760"/>
          </a:xfrm>
          <a:prstGeom prst="rect">
            <a:avLst/>
          </a:prstGeom>
          <a:ln w="936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BA3-FFC4-4D66-8CE2-4A1C431ED5E1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704880" y="1693800"/>
            <a:ext cx="790740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desktop studies + company visits, if necessar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ctive vs 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activel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decide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enfor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react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a certain situ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06D4-89F5-4353-9664-350DF4BD28DA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619200" y="1701720"/>
            <a:ext cx="803592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  –  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ased on risk-related market surveill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ten in the course of specific inspection project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ocus on specific substances and / o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duct-types (PAHs in tyre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ly: information / awareness-raising campaig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17" descr="Used_tyres_(2)_-_geograph"/>
          <p:cNvPicPr/>
          <p:nvPr/>
        </p:nvPicPr>
        <p:blipFill>
          <a:blip r:embed="rId1"/>
          <a:stretch/>
        </p:blipFill>
        <p:spPr>
          <a:xfrm>
            <a:off x="6278400" y="3684600"/>
            <a:ext cx="2090880" cy="13906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8"/>
          <p:cNvSpPr/>
          <p:nvPr/>
        </p:nvSpPr>
        <p:spPr>
          <a:xfrm rot="5400000">
            <a:off x="8099280" y="4772160"/>
            <a:ext cx="71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Source: Ukko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6:34:44Z</dcterms:created>
  <dc:creator>d1224</dc:creator>
  <dc:description/>
  <dc:language>en-US</dc:language>
  <cp:lastModifiedBy>Ibama</cp:lastModifiedBy>
  <cp:lastPrinted>2004-05-03T19:40:53Z</cp:lastPrinted>
  <dcterms:modified xsi:type="dcterms:W3CDTF">2018-08-16T17:22:06Z</dcterms:modified>
  <cp:revision>105</cp:revision>
  <dc:subject/>
  <dc:title>Folie 1</dc:title>
</cp:coreProperties>
</file>