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4365FD-81B6-4BFA-BADE-3B170AF41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8AF139-7F11-4CB2-96DF-7E8F6499FE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DA28FE-777F-42E4-98EE-FFFE01A1D0F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FFFBF08-B001-47B5-9B19-66AC41B3328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C05A8E-9947-45E2-ADCB-66A471F1CDB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DD221F7-2B7D-4C08-BC8C-6A9FA35D722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9BF-6342-41A5-86E3-E06632E3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254-4185-49FB-9A3D-8672A37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6CC-B8D7-4AB7-A57E-0A73973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413-7308-411F-989A-A19EBE57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A89-5A97-4B2A-8AD6-50FF8927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3008-3677-42F1-A649-C4C5C15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C85-6671-4583-B436-6B247D64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ED96-0C4F-41F2-858C-CCEF1EA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563-1C56-4627-B5D1-A6F5D492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C7EC-363B-4F10-B408-F192F1FD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5165-46E8-4D90-8638-0FC8C3B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639-4578-4C8E-B541-023F3437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B299-6912-4CB6-B6D3-46A3C3AB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E68-1BBF-430B-BD08-280FADC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ED12-2876-4F86-A61D-0052204E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A723-7969-46C1-93A9-666DEDAF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D31F-8A54-4596-B287-9E1F0515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5E3-24E6-4645-82A7-A3658CA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27F-7278-4D26-B012-D21CD3E9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1A1-29AA-44A0-A6DD-2F231DE2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478-6E2C-453F-888D-479746F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B0F-A1A9-481C-B35F-7191AEB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124-66C5-4511-BD95-6665B9B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549-5190-4938-9E1F-91605CE8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0DE-31D9-4FFA-BE19-002B8D6E92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35AA-A798-4896-91FD-3B75E8E0A1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sustainable_use_pesticides/index_e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760" y="1717560"/>
            <a:ext cx="878868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Sustainable Use of Pesticides in the EU: </a:t>
            </a: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Directive 2009/128/EC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52320" y="4818240"/>
            <a:ext cx="80010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Karin Niensted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DG Health and Consumers / SANCO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Unit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 E3 – Chemicals, contaminants, pesticid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6 October 2014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EU legislative framework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98100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7320" y="246060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Placing on the market of plant protection product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239920" y="5740560"/>
            <a:ext cx="43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Technical requirements for machinery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031160" y="4124160"/>
            <a:ext cx="183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Maximum residue levels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4600" y="454356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Collection </a:t>
            </a:r>
            <a:br>
              <a:rPr sz="2000"/>
            </a:b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of statistic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" name="AutoShape 15"/>
          <p:cNvSpPr/>
          <p:nvPr/>
        </p:nvSpPr>
        <p:spPr>
          <a:xfrm flipH="1">
            <a:off x="6268320" y="450540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2198520" y="2716200"/>
            <a:ext cx="54324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800760" y="2496960"/>
            <a:ext cx="20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Sustainable use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0" name="AutoShape 25"/>
          <p:cNvSpPr/>
          <p:nvPr/>
        </p:nvSpPr>
        <p:spPr>
          <a:xfrm flipH="1" rot="5400000">
            <a:off x="4269600" y="5393520"/>
            <a:ext cx="3729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1" name="AutoShape 31"/>
          <p:cNvSpPr/>
          <p:nvPr/>
        </p:nvSpPr>
        <p:spPr>
          <a:xfrm flipH="1" rot="10776000">
            <a:off x="2003040" y="451476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1"/>
          <a:stretch/>
        </p:blipFill>
        <p:spPr>
          <a:xfrm>
            <a:off x="2843280" y="2419200"/>
            <a:ext cx="3322440" cy="2949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/>
          <p:cNvSpPr/>
          <p:nvPr/>
        </p:nvSpPr>
        <p:spPr>
          <a:xfrm rot="10800000">
            <a:off x="6194520" y="2674800"/>
            <a:ext cx="54288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8"/>
          <p:cNvSpPr/>
          <p:nvPr/>
        </p:nvSpPr>
        <p:spPr>
          <a:xfrm>
            <a:off x="1727280" y="2111400"/>
            <a:ext cx="3662280" cy="140184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81320" y="228924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rectiv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 2009/128/EC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" name="Picture 15" descr="MS"/>
          <p:cNvPicPr/>
          <p:nvPr/>
        </p:nvPicPr>
        <p:blipFill>
          <a:blip r:embed="rId1"/>
          <a:stretch/>
        </p:blipFill>
        <p:spPr>
          <a:xfrm>
            <a:off x="1812960" y="3824280"/>
            <a:ext cx="122544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38400" y="3962520"/>
            <a:ext cx="50659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Implementation by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National Action Plans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2 </a:t>
            </a: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(revised at least every 5 yea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62600" y="5567400"/>
            <a:ext cx="61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Directive: national approaches in implementation + subsidiarity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"framework" Directiv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9" name="Right Arrow 2"/>
          <p:cNvSpPr/>
          <p:nvPr/>
        </p:nvSpPr>
        <p:spPr>
          <a:xfrm>
            <a:off x="636480" y="59976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047600" y="2254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4200" y="2381760"/>
            <a:ext cx="288612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Reduce impacts on humans and the environ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+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MS PGothic"/>
              </a:rPr>
              <a:t>promote the use of low pesticides-input pest manage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2240" y="3645000"/>
            <a:ext cx="882720" cy="523800"/>
          </a:xfrm>
          <a:prstGeom prst="rightArrow">
            <a:avLst>
              <a:gd name="adj1" fmla="val 50000"/>
              <a:gd name="adj2" fmla="val 42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070520" y="37400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Tools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581800" y="136368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5573880" y="184464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573880" y="2325600"/>
            <a:ext cx="430200" cy="47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581800" y="2830680"/>
            <a:ext cx="430200" cy="475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573880" y="33289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5581800" y="38149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581800" y="43243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581800" y="482760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8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581800" y="53323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977080" y="14382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Training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6032520" y="19321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Sal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032520" y="2413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wareness raising 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033960" y="290844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Equip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058080" y="340056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erial application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033960" y="3807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quatic environ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934240" y="43848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Protected area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5965920" y="4776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ndling, storage, disposal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46920" y="533556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IPM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Oval 16"/>
          <p:cNvSpPr/>
          <p:nvPr/>
        </p:nvSpPr>
        <p:spPr>
          <a:xfrm>
            <a:off x="5583240" y="582948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068880" y="581040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rmonised risk indicator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rain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fessional PPP users, distributors and advisors get proper trai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U countries establish certification system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ec 2013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PP sale only by trained people (certificat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sale of professional PPPs to people without certific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pection of equipment in 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 PAE inspected at least once by 2016, then every 5 year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fter 2020 every 3 yea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ed standards for inspection of PAE under develop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CEN mandate / ISO standard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erial spraying is prohibi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derogations are possible under some conditions. Warning of residents essential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312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ted pest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eneral IPM principles (Annex III) mandatory for professional users since 1 January 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guarantee conditions for IPM (e.g. information tools, advisory services) + incentiv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report by 2013 to COM on IPM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andling, storage, dispos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overy and disposal of PPP remnants and packaging according to waste legis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torage areas should prevent unwanted releas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ormation and awareness rai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easures to inform the general publ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ystems to gather information on acute and chronic poiso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onitoring – strategic guidance under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nimising use or banning of PPP use in critical areas for environmental and health reas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water, public parcs, schools, protected natural areas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1328760"/>
            <a:ext cx="8011800" cy="20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sustainable_use_pesticides/index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6" descr="question-mark1a"/>
          <p:cNvPicPr/>
          <p:nvPr/>
        </p:nvPicPr>
        <p:blipFill>
          <a:blip r:embed="rId2"/>
          <a:stretch/>
        </p:blipFill>
        <p:spPr>
          <a:xfrm>
            <a:off x="3057480" y="269568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5:30:30Z</dcterms:created>
  <dc:creator/>
  <dc:description/>
  <dc:language>en-US</dc:language>
  <cp:lastModifiedBy/>
  <dcterms:modified xsi:type="dcterms:W3CDTF">2014-10-06T10:22:04Z</dcterms:modified>
  <cp:revision>1</cp:revision>
  <dc:subject/>
  <dc:title/>
</cp:coreProperties>
</file>