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7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25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7.png" ContentType="image/png"/>
  <Override PartName="/ppt/media/image1.jpeg" ContentType="image/jpeg"/>
  <Override PartName="/ppt/media/image12.png" ContentType="image/png"/>
  <Override PartName="/ppt/media/image6.wmf" ContentType="image/x-wmf"/>
  <Override PartName="/ppt/media/image11.png" ContentType="image/png"/>
  <Override PartName="/ppt/media/image30.jpeg" ContentType="image/jpeg"/>
  <Override PartName="/ppt/media/image3.jpeg" ContentType="image/jpeg"/>
  <Override PartName="/ppt/media/image5.jpeg" ContentType="image/jpeg"/>
  <Override PartName="/ppt/media/image2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18.png" ContentType="image/png"/>
  <Override PartName="/ppt/media/image2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notesMasterIdLst>
    <p:notesMasterId r:id="rId31"/>
  </p:notesMasterIdLst>
  <p:sldIdLst>
    <p:sldId id="256" r:id="rId32"/>
    <p:sldId id="257" r:id="rId33"/>
    <p:sldId id="258" r:id="rId34"/>
    <p:sldId id="259" r:id="rId35"/>
    <p:sldId id="260" r:id="rId36"/>
    <p:sldId id="261" r:id="rId37"/>
    <p:sldId id="262" r:id="rId38"/>
    <p:sldId id="263" r:id="rId39"/>
    <p:sldId id="264" r:id="rId40"/>
    <p:sldId id="265" r:id="rId41"/>
    <p:sldId id="266" r:id="rId42"/>
    <p:sldId id="267" r:id="rId43"/>
    <p:sldId id="268" r:id="rId44"/>
    <p:sldId id="269" r:id="rId45"/>
    <p:sldId id="270" r:id="rId46"/>
    <p:sldId id="271" r:id="rId47"/>
    <p:sldId id="272" r:id="rId48"/>
    <p:sldId id="273" r:id="rId49"/>
    <p:sldId id="274" r:id="rId50"/>
    <p:sldId id="275" r:id="rId51"/>
    <p:sldId id="276" r:id="rId52"/>
    <p:sldId id="277" r:id="rId53"/>
    <p:sldId id="278" r:id="rId54"/>
    <p:sldId id="279" r:id="rId55"/>
    <p:sldId id="280" r:id="rId56"/>
    <p:sldId id="281" r:id="rId57"/>
    <p:sldId id="282" r:id="rId58"/>
    <p:sldId id="283" r:id="rId59"/>
    <p:sldId id="284" r:id="rId60"/>
    <p:sldId id="285" r:id="rId61"/>
    <p:sldId id="286" r:id="rId62"/>
    <p:sldId id="287" r:id="rId63"/>
    <p:sldId id="288" r:id="rId64"/>
    <p:sldId id="289" r:id="rId65"/>
    <p:sldId id="290" r:id="rId66"/>
    <p:sldId id="291" r:id="rId67"/>
    <p:sldId id="292" r:id="rId68"/>
    <p:sldId id="293" r:id="rId6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notesMaster" Target="notesMasters/notesMaster1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slide" Target="slides/slide3.xml"/><Relationship Id="rId35" Type="http://schemas.openxmlformats.org/officeDocument/2006/relationships/slide" Target="slides/slide4.xml"/><Relationship Id="rId36" Type="http://schemas.openxmlformats.org/officeDocument/2006/relationships/slide" Target="slides/slide5.xml"/><Relationship Id="rId37" Type="http://schemas.openxmlformats.org/officeDocument/2006/relationships/slide" Target="slides/slide6.xml"/><Relationship Id="rId38" Type="http://schemas.openxmlformats.org/officeDocument/2006/relationships/slide" Target="slides/slide7.xml"/><Relationship Id="rId39" Type="http://schemas.openxmlformats.org/officeDocument/2006/relationships/slide" Target="slides/slide8.xml"/><Relationship Id="rId40" Type="http://schemas.openxmlformats.org/officeDocument/2006/relationships/slide" Target="slides/slide9.xml"/><Relationship Id="rId41" Type="http://schemas.openxmlformats.org/officeDocument/2006/relationships/slide" Target="slides/slide10.xml"/><Relationship Id="rId42" Type="http://schemas.openxmlformats.org/officeDocument/2006/relationships/slide" Target="slides/slide11.xml"/><Relationship Id="rId43" Type="http://schemas.openxmlformats.org/officeDocument/2006/relationships/slide" Target="slides/slide12.xml"/><Relationship Id="rId44" Type="http://schemas.openxmlformats.org/officeDocument/2006/relationships/slide" Target="slides/slide13.xml"/><Relationship Id="rId45" Type="http://schemas.openxmlformats.org/officeDocument/2006/relationships/slide" Target="slides/slide14.xml"/><Relationship Id="rId46" Type="http://schemas.openxmlformats.org/officeDocument/2006/relationships/slide" Target="slides/slide15.xml"/><Relationship Id="rId47" Type="http://schemas.openxmlformats.org/officeDocument/2006/relationships/slide" Target="slides/slide16.xml"/><Relationship Id="rId48" Type="http://schemas.openxmlformats.org/officeDocument/2006/relationships/slide" Target="slides/slide17.xml"/><Relationship Id="rId49" Type="http://schemas.openxmlformats.org/officeDocument/2006/relationships/slide" Target="slides/slide18.xml"/><Relationship Id="rId50" Type="http://schemas.openxmlformats.org/officeDocument/2006/relationships/slide" Target="slides/slide19.xml"/><Relationship Id="rId51" Type="http://schemas.openxmlformats.org/officeDocument/2006/relationships/slide" Target="slides/slide20.xml"/><Relationship Id="rId52" Type="http://schemas.openxmlformats.org/officeDocument/2006/relationships/slide" Target="slides/slide21.xml"/><Relationship Id="rId53" Type="http://schemas.openxmlformats.org/officeDocument/2006/relationships/slide" Target="slides/slide22.xml"/><Relationship Id="rId54" Type="http://schemas.openxmlformats.org/officeDocument/2006/relationships/slide" Target="slides/slide23.xml"/><Relationship Id="rId55" Type="http://schemas.openxmlformats.org/officeDocument/2006/relationships/slide" Target="slides/slide24.xml"/><Relationship Id="rId56" Type="http://schemas.openxmlformats.org/officeDocument/2006/relationships/slide" Target="slides/slide25.xml"/><Relationship Id="rId57" Type="http://schemas.openxmlformats.org/officeDocument/2006/relationships/slide" Target="slides/slide26.xml"/><Relationship Id="rId58" Type="http://schemas.openxmlformats.org/officeDocument/2006/relationships/slide" Target="slides/slide27.xml"/><Relationship Id="rId59" Type="http://schemas.openxmlformats.org/officeDocument/2006/relationships/slide" Target="slides/slide28.xml"/><Relationship Id="rId60" Type="http://schemas.openxmlformats.org/officeDocument/2006/relationships/slide" Target="slides/slide29.xml"/><Relationship Id="rId61" Type="http://schemas.openxmlformats.org/officeDocument/2006/relationships/slide" Target="slides/slide30.xml"/><Relationship Id="rId62" Type="http://schemas.openxmlformats.org/officeDocument/2006/relationships/slide" Target="slides/slide31.xml"/><Relationship Id="rId63" Type="http://schemas.openxmlformats.org/officeDocument/2006/relationships/slide" Target="slides/slide32.xml"/><Relationship Id="rId64" Type="http://schemas.openxmlformats.org/officeDocument/2006/relationships/slide" Target="slides/slide33.xml"/><Relationship Id="rId65" Type="http://schemas.openxmlformats.org/officeDocument/2006/relationships/slide" Target="slides/slide34.xml"/><Relationship Id="rId66" Type="http://schemas.openxmlformats.org/officeDocument/2006/relationships/slide" Target="slides/slide35.xml"/><Relationship Id="rId67" Type="http://schemas.openxmlformats.org/officeDocument/2006/relationships/slide" Target="slides/slide36.xml"/><Relationship Id="rId68" Type="http://schemas.openxmlformats.org/officeDocument/2006/relationships/slide" Target="slides/slide37.xml"/><Relationship Id="rId69" Type="http://schemas.openxmlformats.org/officeDocument/2006/relationships/slide" Target="slides/slide38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dt" idx="76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 type="ftr" idx="77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6"/>
          <p:cNvSpPr>
            <a:spLocks noGrp="1"/>
          </p:cNvSpPr>
          <p:nvPr>
            <p:ph type="sldNum" idx="78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E3AE-79BD-41BC-ACD6-84EF0A3C7E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46EC-9C0F-4274-BC53-56B565A2B66C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8AF1-074C-45B3-AF80-94304DFC1F0C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EC37-592B-417F-A876-90ACFAF42063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252B-FA77-4865-B43B-A2B8BC28F8D6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1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4C02-B635-45D6-980F-82919AA3B1E8}" type="slidenum">
              <a:rPr b="0" lang="en-GB" sz="1200" spc="-1" strike="noStrike">
                <a:solidFill>
                  <a:srgbClr val="17179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MRL setting and consumer risk assessment for all uses resulting in residues in food or fe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BD6A-5CC0-4D16-B485-0DF7799E9F1F}" type="slidenum">
              <a:rPr b="0" lang="en-GB" sz="1200" spc="-1" strike="noStrike">
                <a:solidFill>
                  <a:srgbClr val="17179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07221-6860-475A-AFA9-281FA47C85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4DC87-FBF6-4D4D-9389-FA1A154B058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C42063-9C38-4293-92E1-829DA0A8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90C013-DDD7-4ECF-B46B-64847812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15ED14-884F-4EDE-8A35-75997250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B5F8DB-8CBC-41B2-88EA-A14BF364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03C58F-732F-4BC9-BA01-11664D13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2B0291-EE9F-4F9B-8CDF-92AA171C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DBD395-BE4F-4687-9796-7F500875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6FF48E-00B1-4B38-A03D-222FD28C6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33A52E-F0F1-46F8-8B4F-FBA089CD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B1D9ED-50BE-40BE-9BFA-617899C88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B9284-716A-4400-85FA-6D04332BCFB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A2F23A-8146-47BC-AEA8-F9FE9ED6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2E60FF-1658-4D13-BCEF-A5C46DF9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7E35ED-FD0C-4FA1-98CB-F2216DBE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FA9092-6D22-4A00-9DB9-EDB6E181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65AD2B-7CA9-4C54-878B-3A562076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8E750C-A270-4DF8-A8E1-5327FB3C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A5E644-06DE-49E7-8FE3-9D79F875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0FF28C-3C00-4244-8EC5-326CC2FE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DB07C4-85FF-407E-89D1-6F4B68B8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AC812E-4096-48A6-92D9-FBA8CB443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E9E24-338A-48D2-9D01-1513D253CAF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DCFC1F-C30D-4FF8-86A3-45ED327D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7E786C-6426-4B50-9197-81C690318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0DA925-3598-4CC4-A48B-2ACED7A1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AB7C02-FC2A-40D4-AD14-32975A44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551E99-6681-4A12-A11C-78FF025D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D27D77-8C6D-45B4-A707-763C9A18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A15696-A262-43B9-9434-A9B85520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991953-D21D-46D5-9311-CD4F05E4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766D00-74F4-4D4C-B093-946600FA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A12542-AD1A-4B88-A1E8-3BA359AA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D975A-A33F-4153-A181-645F3421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F21C6A-61FF-43ED-B916-8CB35B47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B1C335-69FE-4ED5-9821-9692EDD43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EE1F96-C027-4C68-976B-B1FB1285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259457-E54A-4C58-B8C1-2B27782A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66CE21-2219-4BA9-BEDC-CBB54C94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57D08E-DE84-4A51-8822-6BDF80EE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0DF66D-A20E-442E-BA42-6C305444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C5E4C0-D2DF-4AE3-8913-82E230EB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FF1B78-EA1D-4B78-869F-A66A3D55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7B0EB8-7912-468F-BD21-4C4C756A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988F0-9049-45D8-9DDD-E3E0A10C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93C3C2-7DCE-487D-9765-6BEE876B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BBAA39-A09F-4DA9-B3CD-E3F72398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CDC631-A912-40AD-921B-A870F8B9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3819D9-C5D9-47B4-8DD4-C97E5E1CB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A3F5D7-6AB1-4D1A-BFF7-AFD0C5800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97591F-C9B1-4932-9C4B-69696CFA6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86E04E0-0747-4EDB-A093-1ED1AFB1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42B0FA-EA8A-4175-9A94-C7317EC9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F90C3C3-DAD6-4EEA-A837-5270A8B0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E4664A-6DE5-4EF1-AF3E-1F69917A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F6BED-0C36-4248-AD24-BE514964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C299F8-6D66-437B-B525-FF80B749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621C5A-AD67-4611-BD73-43614DBD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F87CAB-D9D9-4F9E-8171-34CD4AD4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EA6370-21DC-4232-9C56-25B37998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EF77BD-BC5E-4520-8174-2A689676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D37355-EAEE-45F7-94D6-7E829C96B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D89D91-02EF-483D-ACE8-CF04AB14C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B66F63-4E36-4F8A-829B-3C80657FA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2A5A0E2-FBDD-49A0-875A-ABC43AF5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737E98-A514-4843-9A8D-2962FEED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DA9ED-79F6-4F8A-956F-A0BE7F4D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5536E0-7E8A-4B54-B9A0-C0237ABE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6B0871-C4E4-4137-B2BF-F6F5DECA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7FE12CD-111D-4BA7-8E7F-10C7B673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7CFFFC-0376-46B7-836C-913997B7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78A1ADF-3561-43B5-816B-D9F613D3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A02F562-3F07-4443-837A-FFDACC3E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E0E93A-6BDF-4144-8968-0DFC40B8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F16E34-4347-41F7-9790-5122C4879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EA71D6-B4E4-4308-8E8D-EAB84A87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CC7E25-888A-43B2-A7F7-98D915177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EB430-7A99-43A9-B4C7-A1D5B98A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679C16-7EE0-412D-90B0-AB7AC092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65BFA9-CC04-4DB6-91FB-9A2275F9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50D7EA-7B53-46C2-A984-DCFE287B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6E46AE-E8BE-4413-A780-F9F9AC6E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625A31-CA53-4CC0-AA32-C141D8DA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0732C0-B9FD-49DC-9158-24CA1087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75D3DD-CDAA-4116-9BA1-73E9B8F1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910FB7-1793-44CF-8B49-57315011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1CA364-620B-48B8-A137-73943C99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946066-0696-41B0-A593-7CB3B6D80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45401-D4F1-4106-AAE3-118516AB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ED1A18-17A9-436C-9C37-85E1E70E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4E4FD27-032A-4E96-9727-66C5ED3A5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5474DD0-AC45-4469-8B2B-DF263FF4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D001A64-65B3-4B98-B0B2-87475EA4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98119F7-5162-4B8D-9A29-3C9F3B93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6A6F73C-E1E5-4F60-B37E-947CEF78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59EC1F5-5995-437C-921B-25F3900E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7092CC9-C2F8-4F52-A4EA-5B0F3B45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4799B75-42D6-4CF3-9C90-17DC6B66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87BAECC-8EEB-4409-B947-5B2DD8F6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0B597-4298-4892-A5F4-43A907B4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1ADCA59-B7AC-4532-BAAD-54443120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AB30D9D-A8F3-4F0F-B041-4DB4FA0EE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7AF1015-CC21-4B0D-8722-E285714D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3438208-23DA-4B01-93EE-B90E02F438A0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B5108AB-E14C-44C5-9489-31AB4CE4A3A3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5E35D8E-003E-4DB3-83B2-3500FC1D9F2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108C9CF-8CBE-47DA-9800-F94874E3820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7EFAB8A-2936-46C4-AE8E-D7143D00B43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B54B89A-C928-4779-A63B-CEB455524B50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D8A745B-1D2F-4F63-BB2A-DBB1D6EECE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CCD8E-99C4-4F20-957C-704EB4AA79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BE5B1-E491-43B0-9E19-642413BA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8176D99-B35E-4D7C-967B-BBC187A3408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E343455-5F39-4F6D-BAFD-D7CB28BC0FE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F6340CE-5DE0-477C-96CE-8A806703F18F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C5E3F45-41F1-4E1D-89C9-59BD06DDB74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4DB9C82-A5AD-48B3-A65C-6A2C84EA78A2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F9478E6-066F-4AFD-AE97-BB296ED424A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C7DFD92-D365-42A1-895F-5717BFA799DD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5BCDD37-E623-4AE0-8DC3-9A786BB2F33D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1995901-71D2-44C1-A732-2ED42DB6C96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7ACED55-4DCD-4526-B389-4A2A01B5C9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7189F-3F85-494A-9C40-051DC6A0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2834AB6-854E-430F-B4D3-0AACD715B8A9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70140EB-1A64-4ACF-977B-6868806BA51A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B563A44-7281-44D8-BA3E-128B8A9C71E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80311BB-F30C-4A19-A586-98B5962BC84E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A2BD6C3-DE0D-4877-B64F-956AD0DB825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458CFB9-86A0-4BA7-B1DB-4FE3EB294D8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B96CE8C-5106-479A-842C-BFAB8D58E2D6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4880D8E-DBA6-4521-A6B9-4DF79391784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E87A8A5-1C41-4D96-AD9D-B358D458225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65AAB5B-7058-406F-85A3-CDABBBAF5C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86D42-03AB-4C80-A693-2EFA2098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47AACD0-4993-4454-8167-A279FC11C801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575B645-7264-4B04-9CF2-58DA834FEE8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B88215F-56DD-4B32-A650-C8FD09362D0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0F9F06B-3C12-427B-BECC-65F24AADD2A6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A763CD6-6E40-49D5-AECE-B8EE4DB1BD4B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6F1D7D9-37A1-4A66-9BBF-42C672BE2777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E1FCC41-AD99-4014-A41C-98C0B69FF30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07CC757-450A-4615-83F1-D7FBE1551F27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5309F1C-5B25-48A2-AACA-096211CB40AA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47B3042-77DF-410F-AD05-2D4A5E09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D7FD4-456B-4ECF-9156-2EC76969D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657CCB9-AB94-4DD3-9DC9-B549EF78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D9B1EE2-42A2-4C50-AA76-8022946E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94C8712-06CF-4949-9E7F-8041DE8B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82B58C5-B389-4217-818B-9357A227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7ECF1B4-7B86-4DDC-838F-D296BE5B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579E32D-0BB5-44FE-A1F9-F4FD6F8A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6429AF1-B17D-4B24-8894-E3E4AB32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37E5F5A-50F2-415E-AF21-151D768A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B50FC0F-B1B0-42D2-9472-10C78121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98C12BD-380E-4A7E-99AC-67568E0B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27994-E85C-4C4E-BC29-C15D5C02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0EC7423-8EE4-4D03-B5AF-802A366B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368C2DC-9C77-4A4E-84FE-8900C152C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A1B0FCD-8F2B-4C7F-BC57-3E0052A5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E404FFA-8C75-4049-ACF7-2E2D9BDC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8020255-2FC3-451B-98B5-492EC8BE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AD0C966-3559-4817-923A-5EFFA2EA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1945BC3-D207-447D-AAE1-9F3763A3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AC29E14-7924-43FE-AFFF-FA6CFEA6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EFF6EF7-C10F-4508-83FF-4523670B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4CB12FA-EFF8-4DC0-AB72-16A299EA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589933-FA51-4271-8D54-8D646380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8084C4A-0726-4C61-9195-CD7B3074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6B43B63-2ADA-4B5C-80A6-E67B77B7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28FDFB1-1B3A-4C79-92AC-86C9DE98A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7BA408D-2E3C-4C2C-9A6C-6D2E1F73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1CD811E-0A95-45BA-ABE7-49D09481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4594F84-6E23-4C82-8E17-AC532267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3B140BD-623A-4A09-87BB-E3D65EDC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F727B2F-DD66-4386-90B2-9FDE69B6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D1888DF-4DF7-49BA-AD0D-99C5B28E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213DBF5-73D0-4C4C-B033-C5BB74D3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0F1B44-0EFC-4021-A18E-B63640BB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BE90BFC-BA1F-4045-BABE-832D944E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121F8C5-3AB8-4CB8-843C-02051350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0FEDC48-F24F-4784-B2B9-69AFEDF9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1E979EE-467D-49B0-85CC-C47EDEF9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79A13C9-F004-44AC-A957-BC0E3C8B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6D30C4C-B4A5-49B0-A35F-151BD82D9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44EB162-DE98-4E7A-AE70-11388E01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75E6796-137F-49C1-B781-80987BAE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2F2ACBB-2F87-4F6F-8093-A7AF84C7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BA1D92A-FF19-49FD-83CC-5200E8CE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0C208C-A872-4458-88B2-A7780492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24EE05F-1896-4BBE-AA4F-98C0AD83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95346C5-DC2A-4BD3-A4AD-1FCD3E6B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B44F39A-FF7E-4149-B14F-6C4B4864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B9950E3-C2EF-4FE8-868D-D34CF580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CA75C8E-7978-409B-9344-5DA7B57F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72C2BF9-56B0-4FF3-A50A-094A8FDB2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0A36E65-59F4-4BBB-8EC0-5D171DC34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A81EB7C-64BF-4BED-B26D-3E1D652AF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EC8508E-4024-4427-B750-FA755ECE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48A3A5F-C1F9-4648-A4D7-42CB149B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4A0B32-1D3B-47C1-8C12-F9638FD6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D80352B-C016-4B6A-8A4B-771905DD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F01A5FB-2A85-436D-B8F6-222EF16F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7895E84-DFE1-49D6-835B-CD2B42BC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9F7C4CB-2303-41A7-88AD-C95C60C7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306659E-3429-401D-87FB-88B82CE1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2C4573B-DD68-4104-AF4C-FED2ED81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D5FB564-0F81-4C57-A5FE-FE1218A3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869C01D-7A56-4908-A703-06A9FFC6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2DF7B69-7FDF-4525-8261-AF1B9C7C8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071A42D-8EAA-42B0-A2FD-BC7B23A9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EF7206-26CF-4F29-9F37-76DCAECF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07E3970-5069-40F8-A835-441363D1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C540300-9441-4C33-AB89-F44FFB8D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7B16D9C-FE7E-4ACA-8A4A-E4E77D4D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23AD714-10F3-4A95-A993-FB5A973A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65C9E74-55D8-4169-A88C-8349591F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0B55F03-BDE3-4489-A4B9-723A6ABD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8354184-C3DA-4F9E-A392-BD82A610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BB17023-3E7F-4578-BD86-00BF94A0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57B38B0-9760-4560-B775-7CAC422D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4FC9DCB-3BDA-4C08-9703-7702B44AD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23A70-9B12-4CC7-B4EA-A267983643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EEF366-9536-48D7-88ED-5F0CD523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18E98C7-CB4D-4072-A6B5-06F6E2F1C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DBB0284-87AB-4797-992A-3EE89B496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31D8C77-4971-43BC-9402-E0C62112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4443381-2F23-4374-9BD7-3E580252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5307BE6-ECDC-4EDB-B6CB-EF816473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9D3A52D-9B7F-496C-AC50-B8F24FAB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6F4AE71-C1F2-4771-9148-B710EF14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9B4CFEE-01A7-428C-9C59-22B3601F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DCA9FA0-51BA-44CA-A2D3-EC90503F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BDDDAEE-88FE-42DE-BCDB-1E225FD3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2BD0FD-95FD-4FF8-91B6-C4DCDBFE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A72D5E1-10BD-497A-9792-9683D1A7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DDFFD34-75AE-4B42-A07F-59083ACE0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5F611F5-D2B9-4F7E-8010-D77246F4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06102FD-9063-497F-A512-D6D97B7C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82C2DC8-9EF1-4797-8035-C1EA195C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9DA806F-2812-4CE6-AA5B-35DED986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0AE8C2A-C352-4604-A81D-28302C14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AC7E25C-DF21-4AF2-9FA9-5C395A03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6837F6F-90F5-42EF-A3A7-BDD38E36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23795DB-11A7-46A0-8123-7D368481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179584-663B-40E4-9F37-5A52ADA5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F7495D5-9A4D-4C8F-8140-9154617E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30FD074-9486-490D-A2A6-DC405045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1E3B9A6-B6D9-4F62-B6E3-21B0C34A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5F8D70F-172D-46FE-AFAA-72422E51C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95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96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5D091BC-AF96-4EEA-9ECF-A249DD69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4B4579D-60F5-4100-9BDA-F6CE57BD4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9E0AAB9-63B6-4706-85AC-04D31185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CE723D9-9504-43F9-A127-D6933865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4F81091-316F-461A-AB5B-C7BCE74E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D9553FD-5FA1-4FF3-A17B-25625FD7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9C7224-51A1-4BAE-93A7-E3D3866C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E82C735-B712-4A13-A9D1-9EBE9B6F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E1B4DD8-A39E-40A1-896A-89E890DC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CABC9C7-FFB3-42DC-8135-DCD02405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35A17EE-6A15-416C-A9CB-69546808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55418F2-1D2E-49B6-AE12-00D07707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3732289-2A93-4092-8A6C-66E84A8C7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36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37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E8F4933-44F9-4E40-8301-10198A51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5E2258-5277-448F-8E8D-BB1AEDC8D498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AFDD01-18F4-404B-8508-4049AB317D2F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C834F7-CF6F-4BD1-BC26-7C3BFB870C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E2A8F4-34CD-4B40-A9F0-CC741A85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C250D3-7286-4FA2-BABB-F5E5DA5DD101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F28591-5BF8-414F-9A35-563E77212405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C29645-05AC-436E-A879-C39263C0A649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5D359C-4E53-4AA0-A4F8-77918DA58E83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0D8AA4-4EF9-43A5-907F-82B3087E72BD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31BF4B-C583-4F02-90DF-974CE028BFBF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8BE861-0384-4F04-A44D-EFAF18B15D86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8BF367-EA8E-499D-9A97-818B651904E1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76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77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519DEE-D235-4752-9307-C25066BD578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044D78-7775-46B3-A5B7-0087E6C4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4FF8CA-07BB-4847-A107-30BA3AC0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C4491-FAD8-4AE0-8EFD-E5337033DE6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55A19-67F3-488C-8E8F-3914EBFC0BD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98C7B-4123-4F92-91E0-1B558635A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C96D6-1287-4979-B511-C3449A36683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80BED-2925-484A-B5E5-54B456437CC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C1867-E5CB-4FCD-9854-CB12E6AE23B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E6B2F-B7AD-43BA-94E6-3CD6F94D89C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4699B-2A42-4899-85A8-FD2FCB7DE74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B68BB-24D6-4126-BE94-25A309C1144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46180-ACAE-41B0-A28E-60D40D251B0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30D0B-11E3-4E85-8AB9-C2AEACDF8A0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C8F44-C680-4988-8FFA-0DE69AA3719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20425-1A35-4231-BE08-10455E6559B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BAC37-3C2C-4FEB-B3B0-0778A5376C1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DA80B-7638-4615-B15C-49237C09015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911F7-51D4-4720-9578-311B5D4F4D1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8770F-3751-42E7-B8CF-419CD3EAF7A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64417-4CA4-43B5-9EA6-026AC8F7E25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CF2F7-D3A6-439F-ACBA-B06E6CEC016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0000F-66B5-4014-9B4C-6DE40B15B59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2CCDB-7A52-49E6-AFFC-9350DA941EA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15D11-E4E9-4D6A-8A21-CD87C80E3F8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3753C-F392-441E-8B8C-75798484ED1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B7BBF-8768-45A6-AB04-2E437D9409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82A4B-0AAB-49BC-BEAE-C45DFF7C839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56CEB-C67E-4A26-8617-ACFFF6F2328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8F1B2-EECF-4EE0-BBA6-AA52F5D0E17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10871-FCAF-478C-869A-C61642A09C6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00DE46-48DE-4006-8EEA-CA19C20377B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C00C29-E02B-4C0C-80AD-0AE1C57EB4E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EC531F-54BE-4878-B179-4E27F140E5E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7809A2-1C5C-422C-B53A-395A3DE47D2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FB031F-3CD5-42EE-B5F6-7F3DADD9CB8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A2727F-80A9-4048-9FB4-2EE7FB00868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697AB3-6F25-4790-B48F-062FBFC347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0E9A6-3FBD-45FF-9F53-B61F905A862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7D4769-4D81-47EA-A87D-8AC0BB09CE6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CFA0F8-32CF-4E19-AFFC-D508DA41BA5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6FBA74-3907-4B2F-AA49-C4F7A1CB47D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4FB4E4-BDA0-4EB0-B6DA-745395D2634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D04CDB-5BAE-4E91-A4E1-CF70F6C3AB0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586CB3-CF5C-46D8-92B6-0EE7E16C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D07BE9-C3A1-4E89-A01C-111C6AC5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E892F5-F9D0-4E2B-B226-7400DF7A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0E5CAE-D65A-4645-BD05-70EC522C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F36357-9C3B-473D-BB09-04276AEB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2179C-0C8E-432D-839D-1BCC29CAE25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353402-A70C-47EF-96FA-74024136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917BFA-B5B3-4B7D-9FC9-5B5DD8E9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9450E4-1431-4972-A3F6-3118553B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27BBDE-9981-4FE3-B471-CA8790FE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DE2569-4F1A-4927-AE6B-57C0B6A1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B912D6-DCF0-428F-8822-EEE6071B3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7DF6E9-1991-4C4A-A9C3-D56DBACD3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8BCC28-BB1E-487A-B5A8-D05613A2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7C4B24-CD8C-4100-B770-1E032300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3C46FB-44B4-446C-B519-3D9689D3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07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Pro"/>
              </a:rPr>
              <a:t>SH Platform, 22 June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4083-7A10-499A-BB60-3148BA739852}" type="slidenum">
              <a:rPr b="1" lang="en-GB" sz="1200" spc="-1" strike="noStrike">
                <a:solidFill>
                  <a:srgbClr val="000000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86DF-85DA-449E-8217-163E19D04638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6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1AFB-D35C-4255-9996-7B2B220720F1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9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9DFF-548F-4290-A311-5E834ACF2FA1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0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2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D7DA-A5ED-4657-B3FC-07C8AAAD88F1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3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5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4C10-10DD-467E-9B6A-67315A1E9486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6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8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1F03-48F2-414C-8182-87E8791D48D5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39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1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CE1B-6CDF-4987-A4C6-8B89E076B953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ftr" idx="42"/>
          </p:nvPr>
        </p:nvSpPr>
        <p:spPr>
          <a:xfrm>
            <a:off x="179280" y="645300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sldNum" idx="4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79B6-2650-4577-9944-8F666F18E8FC}" type="slidenum">
              <a:rPr b="1" lang="en-GB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sldNum" idx="44"/>
          </p:nvPr>
        </p:nvSpPr>
        <p:spPr>
          <a:xfrm>
            <a:off x="7772040" y="632448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2DED-E0B2-44C8-9656-8165713D13D1}" type="slidenum">
              <a:rPr b="1" lang="en-US" sz="1200" spc="-1" strike="noStrike">
                <a:solidFill>
                  <a:srgbClr val="ffffff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ftr" idx="45"/>
          </p:nvPr>
        </p:nvSpPr>
        <p:spPr>
          <a:xfrm>
            <a:off x="107640" y="6308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sldNum" idx="46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8371-9A34-425A-8C4E-A36A98709EAA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793D-4C77-45A0-A860-45FE73890348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4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4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49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5ABD-5131-41F6-91B1-B077A9A2B03C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50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5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52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C942-36BB-4CA3-8681-0C7B7A5C8444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dt" idx="53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ftr" idx="5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 type="sldNum" idx="55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1B61-0856-4ABB-8D93-C06F2D0E7DF9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dt" idx="56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ftr" idx="5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sldNum" idx="58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0276-5530-4958-87F6-211F658D18F4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59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1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DC16-5E6A-4948-8E90-F41298ABE251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2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4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5DDD-2D40-403A-ABCB-DC9D85558861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dt" idx="65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ftr" idx="66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 type="sldNum" idx="67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4413-10FB-4EE4-86DA-56DAC115A1B6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dt" idx="68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ftr" idx="69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 type="sldNum" idx="70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9F26-BC24-4D96-8CF6-6D67D0B6CA3E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dt" idx="7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 type="ftr" idx="7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 type="sldNum" idx="7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9B5F-5E29-4F71-9C84-3F36EB00DB68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 type="ftr" idx="74"/>
          </p:nvPr>
        </p:nvSpPr>
        <p:spPr>
          <a:xfrm>
            <a:off x="179280" y="645300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 type="sldNum" idx="75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892D-4DE4-4B5B-83D9-BD31100C6A84}" type="slidenum">
              <a:rPr b="1" lang="en-GB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EEA1-0F51-4A33-A0E0-63EF71C5A380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7772040" y="632448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CAA9-6403-4040-936B-E0690A67ABED}" type="slidenum">
              <a:rPr b="1" lang="en-GB" sz="1200" spc="-1" strike="noStrike">
                <a:solidFill>
                  <a:srgbClr val="ffffff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Afbeelding 5" descr="140259-EFSA_PPTemplate_v5-hom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3487320" y="3686040"/>
            <a:ext cx="459756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900" spc="-1" strike="noStrike">
                <a:solidFill>
                  <a:srgbClr val="de700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de7008"/>
                </a:solidFill>
                <a:latin typeface="Times New Roman"/>
              </a:rPr>
              <a:t>Subtitle or location, </a:t>
            </a:r>
            <a:fld id="{3BE6038F-5258-42FB-A5CA-722A727F20D0}" type="datetime">
              <a:rPr b="0" lang="en-US" sz="1900" spc="-1" strike="noStrike">
                <a:solidFill>
                  <a:srgbClr val="de7008"/>
                </a:solidFill>
                <a:latin typeface="Times New Roman"/>
              </a:rPr>
              <a:t>07/30/26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3481560" y="2339640"/>
            <a:ext cx="51019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1717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Times New Roman"/>
              </a:rPr>
              <a:t>Main title  +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Times New Roman"/>
              </a:rPr>
              <a:t>space for a longer title on two or more li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12"/>
          </p:nvPr>
        </p:nvSpPr>
        <p:spPr>
          <a:xfrm>
            <a:off x="7772040" y="632448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E89B-C20B-4C3E-A3EE-081EE7CAE469}" type="slidenum">
              <a:rPr b="1" lang="en-US" sz="1200" spc="-1" strike="noStrike">
                <a:solidFill>
                  <a:srgbClr val="ffffff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3"/>
          </p:nvPr>
        </p:nvSpPr>
        <p:spPr>
          <a:xfrm>
            <a:off x="107640" y="6308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4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661B-0CF3-4D75-AE6C-B975EB8E17E5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5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6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7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7150-4BC0-4EEB-8CD2-A62BE41D2A12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8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9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0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ADF8-FC94-4C8A-9961-0DA6593721B2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3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fsa.europa.eu/en/efsajournal/pub/3589.htm" TargetMode="External"/><Relationship Id="rId2" Type="http://schemas.openxmlformats.org/officeDocument/2006/relationships/hyperlink" Target="http://www.efsa.europa.eu/en/efsajournal/pub/3471.htm" TargetMode="External"/><Relationship Id="rId3" Type="http://schemas.openxmlformats.org/officeDocument/2006/relationships/hyperlink" Target="http://www.efsa.europa.eu/en/efsajournal/pub/3472.htm" TargetMode="External"/><Relationship Id="rId4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28760" y="2786040"/>
            <a:ext cx="815328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GB" sz="3600" spc="-1" strike="noStrike">
                <a:solidFill>
                  <a:srgbClr val="171796"/>
                </a:solidFill>
                <a:latin typeface="Myriad Pro"/>
              </a:rPr>
              <a:t>Current trends and developments in the risk assessment of plant protection products</a:t>
            </a:r>
            <a:br>
              <a:rPr sz="3600"/>
            </a:br>
            <a:br>
              <a:rPr sz="3600"/>
            </a:b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Mr Chris Lythgo</a:t>
            </a:r>
            <a:br>
              <a:rPr sz="2000"/>
            </a:b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Pesticides Unit</a:t>
            </a:r>
            <a:br>
              <a:rPr sz="3200"/>
            </a:br>
            <a:endParaRPr b="0" lang="en-US" sz="20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86" name="Rectangle 3"/>
          <p:cNvSpPr/>
          <p:nvPr/>
        </p:nvSpPr>
        <p:spPr>
          <a:xfrm>
            <a:off x="573120" y="5468760"/>
            <a:ext cx="812808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Myriad Pro"/>
              </a:rPr>
              <a:t>Visit of the Brazilian technical mission</a:t>
            </a:r>
            <a:endParaRPr b="0" lang="en-US" sz="25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ffffff"/>
                </a:solidFill>
                <a:latin typeface="Myriad Pro"/>
              </a:rPr>
              <a:t>EFSA, Parma 10 October 2014</a:t>
            </a:r>
            <a:endParaRPr b="0" lang="en-US" sz="25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TextBox 4"/>
          <p:cNvSpPr/>
          <p:nvPr/>
        </p:nvSpPr>
        <p:spPr>
          <a:xfrm>
            <a:off x="4859280" y="1268280"/>
            <a:ext cx="4033800" cy="40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NEW EFSA Guidance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Protected Crops: </a:t>
            </a:r>
            <a:r>
              <a:rPr b="1" lang="en-GB" sz="2000" spc="-1" strike="noStrike">
                <a:solidFill>
                  <a:srgbClr val="171796"/>
                </a:solidFill>
                <a:latin typeface="Verdana"/>
              </a:rPr>
              <a:t>Published 20 March 2014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Verdana"/>
              </a:rPr>
              <a:t>Estimation of soil DegT</a:t>
            </a:r>
            <a:r>
              <a:rPr b="1" lang="en-GB" sz="1400" spc="-1" strike="noStrike">
                <a:solidFill>
                  <a:srgbClr val="171796"/>
                </a:solidFill>
                <a:latin typeface="Verdana"/>
              </a:rPr>
              <a:t>50</a:t>
            </a:r>
            <a:r>
              <a:rPr b="1" lang="en-GB" sz="2000" spc="-1" strike="noStrike">
                <a:solidFill>
                  <a:srgbClr val="171796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Verdana"/>
              </a:rPr>
              <a:t>Published in May 2014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34" name="Rectangle 4"/>
          <p:cNvSpPr/>
          <p:nvPr/>
        </p:nvSpPr>
        <p:spPr>
          <a:xfrm>
            <a:off x="826920" y="4292640"/>
            <a:ext cx="777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EFSA Guidance on Risk assessment of Bee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MS Pゴシック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MS Pゴシック"/>
              </a:rPr>
              <a:t>Republished in 2014 (ref date 2013)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MS Pゴシック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MS Pゴシック"/>
              </a:rPr>
              <a:t>Has been re-structured  and complemented with a “Calculator” for facilitating its use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721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Improving guidance use: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“Calculators” and Info Session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pic>
        <p:nvPicPr>
          <p:cNvPr id="1236" name="Picture 8" descr=""/>
          <p:cNvPicPr/>
          <p:nvPr/>
        </p:nvPicPr>
        <p:blipFill>
          <a:blip r:embed="rId1"/>
          <a:stretch/>
        </p:blipFill>
        <p:spPr>
          <a:xfrm>
            <a:off x="0" y="1125360"/>
            <a:ext cx="499104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Stakeholder involvement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38" name="Slide Number Placeholder 3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87CC-68AE-4F4C-AE0E-28DFDA1ECF34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39" name="TextBox 7"/>
          <p:cNvSpPr/>
          <p:nvPr/>
        </p:nvSpPr>
        <p:spPr>
          <a:xfrm>
            <a:off x="4932360" y="1413000"/>
            <a:ext cx="34560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Public consultation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71796"/>
                </a:solidFill>
                <a:latin typeface="Verdana"/>
              </a:rPr>
              <a:t>Guidance on exposure for operators, workers, residents and bystander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71796"/>
                </a:solidFill>
                <a:latin typeface="Verdana"/>
              </a:rPr>
              <a:t>Until 20 May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40" name="TextBox 8"/>
          <p:cNvSpPr/>
          <p:nvPr/>
        </p:nvSpPr>
        <p:spPr>
          <a:xfrm>
            <a:off x="324000" y="4437000"/>
            <a:ext cx="3960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Info Session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71796"/>
                </a:solidFill>
                <a:latin typeface="Verdana"/>
              </a:rPr>
              <a:t>Guidance on protected crops and soil degradation rate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71796"/>
                </a:solidFill>
                <a:latin typeface="Verdana"/>
              </a:rPr>
              <a:t>17-18 June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71796"/>
                </a:solidFill>
                <a:latin typeface="Verdana"/>
              </a:rPr>
              <a:t>Registration until 30 April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241" name="Picture 2" descr="https://dam.efsa.europa.eu/mediabin/PreviewImage.asp?type=4&amp;repoid=%7bA8594A13-106E-479C-A080-3BA76EE9FFE8%7d&amp;version=8&amp;validate=NLFPLGNSKJ&amp;md=2-25-201111-18-06AM"/>
          <p:cNvPicPr/>
          <p:nvPr/>
        </p:nvPicPr>
        <p:blipFill>
          <a:blip r:embed="rId1"/>
          <a:stretch/>
        </p:blipFill>
        <p:spPr>
          <a:xfrm>
            <a:off x="6875640" y="2781360"/>
            <a:ext cx="1626840" cy="1079280"/>
          </a:xfrm>
          <a:prstGeom prst="rect">
            <a:avLst/>
          </a:prstGeom>
          <a:ln w="0">
            <a:noFill/>
          </a:ln>
        </p:spPr>
      </p:pic>
      <p:pic>
        <p:nvPicPr>
          <p:cNvPr id="1242" name="Picture 4" descr="https://dam.efsa.europa.eu/mediabin/PreviewImage.asp?type=4&amp;repoid=%7bAB033EB3-5803-4C47-B6B7-7B294F55EC65%7d&amp;version=3&amp;validate=NLFPLGNSKJ&amp;md=4-20-20092-58-57PM"/>
          <p:cNvPicPr/>
          <p:nvPr/>
        </p:nvPicPr>
        <p:blipFill>
          <a:blip r:embed="rId2"/>
          <a:stretch/>
        </p:blipFill>
        <p:spPr>
          <a:xfrm>
            <a:off x="3564000" y="5445000"/>
            <a:ext cx="1452600" cy="936720"/>
          </a:xfrm>
          <a:prstGeom prst="rect">
            <a:avLst/>
          </a:prstGeom>
          <a:ln w="0">
            <a:noFill/>
          </a:ln>
        </p:spPr>
      </p:pic>
      <p:pic>
        <p:nvPicPr>
          <p:cNvPr id="1243" name="Picture 10" descr=""/>
          <p:cNvPicPr/>
          <p:nvPr/>
        </p:nvPicPr>
        <p:blipFill>
          <a:blip r:embed="rId3"/>
          <a:stretch/>
        </p:blipFill>
        <p:spPr>
          <a:xfrm>
            <a:off x="468360" y="1052640"/>
            <a:ext cx="798192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4"/>
          <p:cNvSpPr/>
          <p:nvPr/>
        </p:nvSpPr>
        <p:spPr>
          <a:xfrm>
            <a:off x="214200" y="214200"/>
            <a:ext cx="7094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Myriad Pro"/>
                <a:ea typeface="MS Pゴシック"/>
              </a:rPr>
              <a:t>Pesticides Unit. Regular activities</a:t>
            </a: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245" name="Straight Arrow Connector 13"/>
          <p:cNvCxnSpPr/>
          <p:nvPr/>
        </p:nvCxnSpPr>
        <p:spPr>
          <a:xfrm flipV="1">
            <a:off x="3851280" y="2348640"/>
            <a:ext cx="721440" cy="1044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arrow" w="med"/>
          </a:ln>
        </p:spPr>
      </p:cxnSp>
      <p:sp>
        <p:nvSpPr>
          <p:cNvPr id="1246" name="TextBox 12"/>
          <p:cNvSpPr/>
          <p:nvPr/>
        </p:nvSpPr>
        <p:spPr>
          <a:xfrm>
            <a:off x="468360" y="5661000"/>
            <a:ext cx="3382920" cy="64260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  <a:ea typeface="Arial"/>
              </a:rPr>
              <a:t>Maximum Residue Levels MRL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47" name="TextBox 17"/>
          <p:cNvSpPr/>
          <p:nvPr/>
        </p:nvSpPr>
        <p:spPr>
          <a:xfrm>
            <a:off x="4643280" y="5589720"/>
            <a:ext cx="3600720" cy="76716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Reasoned Opinion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Annual report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248" name="Straight Arrow Connector 18"/>
          <p:cNvCxnSpPr>
            <a:stCxn id="1246" idx="3"/>
            <a:endCxn id="1247" idx="1"/>
          </p:cNvCxnSpPr>
          <p:nvPr/>
        </p:nvCxnSpPr>
        <p:spPr>
          <a:xfrm flipV="1">
            <a:off x="3851280" y="5973120"/>
            <a:ext cx="792720" cy="1188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arrow" w="med"/>
          </a:ln>
        </p:spPr>
      </p:cxnSp>
      <p:sp>
        <p:nvSpPr>
          <p:cNvPr id="1249" name="TextBox 19"/>
          <p:cNvSpPr/>
          <p:nvPr/>
        </p:nvSpPr>
        <p:spPr>
          <a:xfrm>
            <a:off x="468360" y="1700280"/>
            <a:ext cx="3382920" cy="119124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6a6a6"/>
                </a:solidFill>
                <a:latin typeface="Arial"/>
                <a:ea typeface="Arial"/>
              </a:rPr>
              <a:t>Supports the Scientific Panel for pesticides PPR (Plant Protection Product and their Residues).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50" name="TextBox 20"/>
          <p:cNvSpPr/>
          <p:nvPr/>
        </p:nvSpPr>
        <p:spPr>
          <a:xfrm>
            <a:off x="4572000" y="1773360"/>
            <a:ext cx="3600360" cy="113544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a6a6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6a6a6"/>
                </a:solidFill>
                <a:latin typeface="Arial"/>
                <a:ea typeface="MS Pゴシック"/>
              </a:rPr>
              <a:t>Opinion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a6a6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6a6a6"/>
                </a:solidFill>
                <a:latin typeface="Arial"/>
                <a:ea typeface="MS Pゴシック"/>
              </a:rPr>
              <a:t>Guidance document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a6a6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6a6a6"/>
                </a:solidFill>
                <a:latin typeface="Arial"/>
                <a:ea typeface="MS Pゴシック"/>
              </a:rPr>
              <a:t>Ad-hoc mandate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51" name="TextBox 22"/>
          <p:cNvSpPr/>
          <p:nvPr/>
        </p:nvSpPr>
        <p:spPr>
          <a:xfrm>
            <a:off x="395280" y="3860640"/>
            <a:ext cx="3382920" cy="64260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  <a:ea typeface="Arial"/>
              </a:rPr>
              <a:t>Coordinates the Peer Review of active substance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52" name="TextBox 23"/>
          <p:cNvSpPr/>
          <p:nvPr/>
        </p:nvSpPr>
        <p:spPr>
          <a:xfrm>
            <a:off x="4572000" y="3500280"/>
            <a:ext cx="3600360" cy="131364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Provides </a:t>
            </a: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Conclusions</a:t>
            </a:r>
            <a:r>
              <a:rPr b="0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 for single active substances to support the EU decision-maker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253" name="Straight Arrow Connector 24"/>
          <p:cNvCxnSpPr>
            <a:stCxn id="1251" idx="3"/>
            <a:endCxn id="1252" idx="1"/>
          </p:cNvCxnSpPr>
          <p:nvPr/>
        </p:nvCxnSpPr>
        <p:spPr>
          <a:xfrm flipV="1">
            <a:off x="3777840" y="4161960"/>
            <a:ext cx="794520" cy="2304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4" name="Picture 3" descr="European Dossier41"/>
          <p:cNvPicPr/>
          <p:nvPr/>
        </p:nvPicPr>
        <p:blipFill>
          <a:blip r:embed="rId1"/>
          <a:stretch/>
        </p:blipFill>
        <p:spPr>
          <a:xfrm>
            <a:off x="233280" y="2111400"/>
            <a:ext cx="1300320" cy="812880"/>
          </a:xfrm>
          <a:prstGeom prst="rect">
            <a:avLst/>
          </a:prstGeom>
          <a:ln w="9360">
            <a:solidFill>
              <a:srgbClr val="171796"/>
            </a:solidFill>
            <a:miter/>
          </a:ln>
        </p:spPr>
      </p:pic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36000" y="115920"/>
            <a:ext cx="792036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Myriad Pro"/>
              </a:rPr>
              <a:t>Peer review 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Myriad Pro"/>
              </a:rPr>
              <a:t>(legal framework Reg. (EC) No 1107/2009)</a:t>
            </a:r>
            <a:br>
              <a:rPr sz="3200"/>
            </a:br>
            <a:endParaRPr b="0" lang="en-US" sz="2800" spc="-1" strike="noStrike">
              <a:solidFill>
                <a:srgbClr val="ffffff"/>
              </a:solidFill>
              <a:latin typeface="Myriad Pro"/>
            </a:endParaRPr>
          </a:p>
        </p:txBody>
      </p:sp>
      <p:pic>
        <p:nvPicPr>
          <p:cNvPr id="1256" name="Immagine 3" descr="eu stati membri.png"/>
          <p:cNvPicPr/>
          <p:nvPr/>
        </p:nvPicPr>
        <p:blipFill>
          <a:blip r:embed="rId2"/>
          <a:srcRect l="2052" t="1326" r="2052" b="11559"/>
          <a:stretch/>
        </p:blipFill>
        <p:spPr>
          <a:xfrm>
            <a:off x="235080" y="3143160"/>
            <a:ext cx="1296720" cy="1160640"/>
          </a:xfrm>
          <a:prstGeom prst="rect">
            <a:avLst/>
          </a:prstGeom>
          <a:ln w="0">
            <a:noFill/>
          </a:ln>
        </p:spPr>
      </p:pic>
      <p:sp>
        <p:nvSpPr>
          <p:cNvPr id="1257" name="CasellaDiTesto 4"/>
          <p:cNvSpPr/>
          <p:nvPr/>
        </p:nvSpPr>
        <p:spPr>
          <a:xfrm>
            <a:off x="179280" y="1197000"/>
            <a:ext cx="1368360" cy="642600"/>
          </a:xfrm>
          <a:prstGeom prst="rect">
            <a:avLst/>
          </a:prstGeom>
          <a:noFill/>
          <a:ln w="9360">
            <a:solidFill>
              <a:srgbClr val="111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1796"/>
                </a:solidFill>
                <a:latin typeface="Arial"/>
              </a:rPr>
              <a:t>Dossier submission 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58" name="CasellaDiTesto 5"/>
          <p:cNvSpPr/>
          <p:nvPr/>
        </p:nvSpPr>
        <p:spPr>
          <a:xfrm>
            <a:off x="1714680" y="5369040"/>
            <a:ext cx="1056960" cy="368280"/>
          </a:xfrm>
          <a:prstGeom prst="rect">
            <a:avLst/>
          </a:prstGeom>
          <a:noFill/>
          <a:ln w="9360">
            <a:solidFill>
              <a:srgbClr val="111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1796"/>
                </a:solidFill>
                <a:latin typeface="Arial"/>
              </a:rPr>
              <a:t>EFSA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59" name="CasellaDiTesto 6"/>
          <p:cNvSpPr/>
          <p:nvPr/>
        </p:nvSpPr>
        <p:spPr>
          <a:xfrm>
            <a:off x="3147840" y="2116080"/>
            <a:ext cx="2000520" cy="1859400"/>
          </a:xfrm>
          <a:prstGeom prst="rect">
            <a:avLst/>
          </a:prstGeom>
          <a:noFill/>
          <a:ln w="9360">
            <a:solidFill>
              <a:srgbClr val="111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71796"/>
                </a:solidFill>
                <a:latin typeface="Arial"/>
              </a:rPr>
              <a:t>PEER REVIEW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71796"/>
                </a:solidFill>
                <a:latin typeface="Arial"/>
              </a:rPr>
              <a:t>EFSA, RapporteurMS, other MSs, 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71796"/>
                </a:solidFill>
                <a:latin typeface="Arial"/>
              </a:rPr>
              <a:t>EU Commission, Notifier, Public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</p:txBody>
      </p:sp>
      <p:grpSp>
        <p:nvGrpSpPr>
          <p:cNvPr id="1260" name="Group 31"/>
          <p:cNvGrpSpPr/>
          <p:nvPr/>
        </p:nvGrpSpPr>
        <p:grpSpPr>
          <a:xfrm>
            <a:off x="5686560" y="1531800"/>
            <a:ext cx="3133440" cy="2554920"/>
            <a:chOff x="5686560" y="1531800"/>
            <a:chExt cx="3133440" cy="2554920"/>
          </a:xfrm>
        </p:grpSpPr>
        <p:sp>
          <p:nvSpPr>
            <p:cNvPr id="1261" name="CasellaDiTesto 8"/>
            <p:cNvSpPr/>
            <p:nvPr/>
          </p:nvSpPr>
          <p:spPr>
            <a:xfrm>
              <a:off x="5707080" y="1531800"/>
              <a:ext cx="3112920" cy="398880"/>
            </a:xfrm>
            <a:prstGeom prst="rect">
              <a:avLst/>
            </a:prstGeom>
            <a:noFill/>
            <a:ln w="9360">
              <a:solidFill>
                <a:srgbClr val="505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171796"/>
                  </a:solidFill>
                  <a:latin typeface="Arial"/>
                </a:rPr>
                <a:t>1. </a:t>
              </a:r>
              <a:r>
                <a:rPr b="1" lang="it-IT" sz="2000" spc="-1" strike="noStrike">
                  <a:solidFill>
                    <a:srgbClr val="171796"/>
                  </a:solidFill>
                  <a:latin typeface="Arial"/>
                </a:rPr>
                <a:t>Commenting phase</a:t>
              </a:r>
              <a:endParaRPr b="0" lang="en-US" sz="2000" spc="-1" strike="noStrike">
                <a:solidFill>
                  <a:srgbClr val="171796"/>
                </a:solidFill>
                <a:latin typeface="Verdana"/>
              </a:endParaRPr>
            </a:p>
          </p:txBody>
        </p:sp>
        <p:sp>
          <p:nvSpPr>
            <p:cNvPr id="1262" name="CasellaDiTesto 9"/>
            <p:cNvSpPr/>
            <p:nvPr/>
          </p:nvSpPr>
          <p:spPr>
            <a:xfrm>
              <a:off x="5692680" y="2249280"/>
              <a:ext cx="3127320" cy="703800"/>
            </a:xfrm>
            <a:prstGeom prst="rect">
              <a:avLst/>
            </a:prstGeom>
            <a:noFill/>
            <a:ln w="9360">
              <a:solidFill>
                <a:srgbClr val="505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61800" indent="-3618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171796"/>
                  </a:solidFill>
                  <a:latin typeface="Arial"/>
                </a:rPr>
                <a:t>2. </a:t>
              </a:r>
              <a:r>
                <a:rPr b="1" lang="it-IT" sz="2000" spc="-1" strike="noStrike">
                  <a:solidFill>
                    <a:srgbClr val="171796"/>
                  </a:solidFill>
                  <a:latin typeface="Arial"/>
                </a:rPr>
                <a:t>Evaluation of comments</a:t>
              </a:r>
              <a:endParaRPr b="0" lang="en-US" sz="2000" spc="-1" strike="noStrike">
                <a:solidFill>
                  <a:srgbClr val="171796"/>
                </a:solidFill>
                <a:latin typeface="Verdana"/>
              </a:endParaRPr>
            </a:p>
          </p:txBody>
        </p:sp>
        <p:sp>
          <p:nvSpPr>
            <p:cNvPr id="1263" name="CasellaDiTesto 10"/>
            <p:cNvSpPr/>
            <p:nvPr/>
          </p:nvSpPr>
          <p:spPr>
            <a:xfrm>
              <a:off x="5686560" y="3111480"/>
              <a:ext cx="3133440" cy="398880"/>
            </a:xfrm>
            <a:prstGeom prst="rect">
              <a:avLst/>
            </a:prstGeom>
            <a:noFill/>
            <a:ln w="9360">
              <a:solidFill>
                <a:srgbClr val="505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171796"/>
                  </a:solidFill>
                  <a:latin typeface="Arial"/>
                </a:rPr>
                <a:t>3. </a:t>
              </a:r>
              <a:r>
                <a:rPr b="1" lang="it-IT" sz="2000" spc="-1" strike="noStrike">
                  <a:solidFill>
                    <a:srgbClr val="171796"/>
                  </a:solidFill>
                  <a:latin typeface="Arial"/>
                </a:rPr>
                <a:t>Expert’s consultation</a:t>
              </a:r>
              <a:endParaRPr b="0" lang="en-US" sz="2000" spc="-1" strike="noStrike">
                <a:solidFill>
                  <a:srgbClr val="171796"/>
                </a:solidFill>
                <a:latin typeface="Verdana"/>
              </a:endParaRPr>
            </a:p>
          </p:txBody>
        </p:sp>
        <p:sp>
          <p:nvSpPr>
            <p:cNvPr id="1264" name="CasellaDiTesto 11"/>
            <p:cNvSpPr/>
            <p:nvPr/>
          </p:nvSpPr>
          <p:spPr>
            <a:xfrm>
              <a:off x="5729400" y="3687840"/>
              <a:ext cx="3090600" cy="398880"/>
            </a:xfrm>
            <a:prstGeom prst="rect">
              <a:avLst/>
            </a:prstGeom>
            <a:noFill/>
            <a:ln w="9360">
              <a:solidFill>
                <a:srgbClr val="505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171796"/>
                  </a:solidFill>
                  <a:latin typeface="Arial"/>
                </a:rPr>
                <a:t>4. </a:t>
              </a:r>
              <a:r>
                <a:rPr b="1" lang="it-IT" sz="2000" spc="-1" strike="noStrike">
                  <a:solidFill>
                    <a:srgbClr val="171796"/>
                  </a:solidFill>
                  <a:latin typeface="Arial"/>
                </a:rPr>
                <a:t>Conclusion</a:t>
              </a:r>
              <a:endParaRPr b="0" lang="en-US" sz="2000" spc="-1" strike="noStrike">
                <a:solidFill>
                  <a:srgbClr val="171796"/>
                </a:solidFill>
                <a:latin typeface="Verdana"/>
              </a:endParaRPr>
            </a:p>
          </p:txBody>
        </p:sp>
      </p:grpSp>
      <p:pic>
        <p:nvPicPr>
          <p:cNvPr id="1265" name="Picture 12" descr=""/>
          <p:cNvPicPr/>
          <p:nvPr/>
        </p:nvPicPr>
        <p:blipFill>
          <a:blip r:embed="rId3"/>
          <a:stretch/>
        </p:blipFill>
        <p:spPr>
          <a:xfrm>
            <a:off x="210960" y="4653000"/>
            <a:ext cx="1343160" cy="1893960"/>
          </a:xfrm>
          <a:prstGeom prst="rect">
            <a:avLst/>
          </a:prstGeom>
          <a:ln w="9360">
            <a:solidFill>
              <a:srgbClr val="5050e4"/>
            </a:solidFill>
            <a:miter/>
          </a:ln>
        </p:spPr>
      </p:pic>
      <p:cxnSp>
        <p:nvCxnSpPr>
          <p:cNvPr id="1266" name="Straight Arrow Connector 14"/>
          <p:cNvCxnSpPr/>
          <p:nvPr/>
        </p:nvCxnSpPr>
        <p:spPr>
          <a:xfrm flipH="1">
            <a:off x="882000" y="2923920"/>
            <a:ext cx="1080" cy="291240"/>
          </a:xfrm>
          <a:prstGeom prst="straightConnector1">
            <a:avLst/>
          </a:prstGeom>
          <a:ln w="31680">
            <a:solidFill>
              <a:srgbClr val="171796"/>
            </a:solidFill>
            <a:miter/>
            <a:tailEnd len="med" type="triangle" w="med"/>
          </a:ln>
        </p:spPr>
      </p:cxnSp>
      <p:cxnSp>
        <p:nvCxnSpPr>
          <p:cNvPr id="1267" name="Straight Arrow Connector 17"/>
          <p:cNvCxnSpPr/>
          <p:nvPr/>
        </p:nvCxnSpPr>
        <p:spPr>
          <a:xfrm flipH="1">
            <a:off x="882360" y="4303800"/>
            <a:ext cx="2160" cy="351360"/>
          </a:xfrm>
          <a:prstGeom prst="straightConnector1">
            <a:avLst/>
          </a:prstGeom>
          <a:ln w="31680">
            <a:solidFill>
              <a:srgbClr val="171796"/>
            </a:solidFill>
            <a:miter/>
            <a:tailEnd len="med" type="triangle" w="med"/>
          </a:ln>
        </p:spPr>
      </p:cxnSp>
      <p:sp>
        <p:nvSpPr>
          <p:cNvPr id="1268" name="CasellaDiTesto 4"/>
          <p:cNvSpPr/>
          <p:nvPr/>
        </p:nvSpPr>
        <p:spPr>
          <a:xfrm>
            <a:off x="395280" y="5661000"/>
            <a:ext cx="974880" cy="85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DAR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171796"/>
                </a:solidFill>
                <a:latin typeface="Arial"/>
                <a:ea typeface="MS Pゴシック"/>
              </a:rPr>
              <a:t>Draft</a:t>
            </a:r>
            <a:endParaRPr b="0" lang="en-US" sz="10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171796"/>
                </a:solidFill>
                <a:latin typeface="Arial"/>
                <a:ea typeface="MS Pゴシック"/>
              </a:rPr>
              <a:t>Assessment Report</a:t>
            </a:r>
            <a:endParaRPr b="0" lang="en-US" sz="10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269" name="Straight Arrow Connector 20"/>
          <p:cNvCxnSpPr>
            <a:endCxn id="1258" idx="1"/>
          </p:cNvCxnSpPr>
          <p:nvPr/>
        </p:nvCxnSpPr>
        <p:spPr>
          <a:xfrm>
            <a:off x="1554120" y="5600520"/>
            <a:ext cx="161280" cy="1080"/>
          </a:xfrm>
          <a:prstGeom prst="straightConnector1">
            <a:avLst/>
          </a:prstGeom>
          <a:ln w="31680">
            <a:solidFill>
              <a:srgbClr val="171796"/>
            </a:solidFill>
            <a:miter/>
            <a:tailEnd len="med" type="triangle" w="med"/>
          </a:ln>
        </p:spPr>
      </p:cxnSp>
      <p:cxnSp>
        <p:nvCxnSpPr>
          <p:cNvPr id="1270" name="Elbow Connector 23"/>
          <p:cNvCxnSpPr>
            <a:stCxn id="1258" idx="3"/>
            <a:endCxn id="1259" idx="1"/>
          </p:cNvCxnSpPr>
          <p:nvPr/>
        </p:nvCxnSpPr>
        <p:spPr>
          <a:xfrm flipV="1">
            <a:off x="2771280" y="3053880"/>
            <a:ext cx="376920" cy="2547360"/>
          </a:xfrm>
          <a:prstGeom prst="bentConnector3">
            <a:avLst>
              <a:gd name="adj1" fmla="val 50000"/>
            </a:avLst>
          </a:prstGeom>
          <a:ln w="31680">
            <a:solidFill>
              <a:srgbClr val="171796"/>
            </a:solidFill>
            <a:round/>
            <a:tailEnd len="med" type="triangle" w="med"/>
          </a:ln>
        </p:spPr>
      </p:cxnSp>
      <p:sp>
        <p:nvSpPr>
          <p:cNvPr id="1271" name="Left Brace 25"/>
          <p:cNvSpPr/>
          <p:nvPr/>
        </p:nvSpPr>
        <p:spPr>
          <a:xfrm>
            <a:off x="5219640" y="1531800"/>
            <a:ext cx="360360" cy="2592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2592360"/>
              <a:gd name="textAreaBottom" fmla="*/ 258300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50"/>
                </a:cubicBezTo>
                <a:lnTo>
                  <a:pt x="10800" y="9154"/>
                </a:lnTo>
                <a:cubicBezTo>
                  <a:pt x="10800" y="9279"/>
                  <a:pt x="5400" y="9404"/>
                  <a:pt x="0" y="9404"/>
                </a:cubicBezTo>
                <a:cubicBezTo>
                  <a:pt x="5400" y="9404"/>
                  <a:pt x="10800" y="9529"/>
                  <a:pt x="10800" y="9654"/>
                </a:cubicBezTo>
                <a:lnTo>
                  <a:pt x="10800" y="21350"/>
                </a:lnTo>
                <a:cubicBezTo>
                  <a:pt x="10800" y="2147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1717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72" name="TextBox 26"/>
          <p:cNvSpPr/>
          <p:nvPr/>
        </p:nvSpPr>
        <p:spPr>
          <a:xfrm>
            <a:off x="5076720" y="4653000"/>
            <a:ext cx="3743280" cy="128304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ommission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tanding Committee on the Food Chain and Animal Health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SCoFCAH = EC +MSs)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273" name="Shape 28"/>
          <p:cNvCxnSpPr>
            <a:stCxn id="1264" idx="3"/>
            <a:endCxn id="1272" idx="3"/>
          </p:cNvCxnSpPr>
          <p:nvPr/>
        </p:nvCxnSpPr>
        <p:spPr>
          <a:xfrm>
            <a:off x="8819640" y="3917520"/>
            <a:ext cx="2520" cy="1428120"/>
          </a:xfrm>
          <a:prstGeom prst="bentConnector3">
            <a:avLst>
              <a:gd name="adj1" fmla="val 14383333"/>
            </a:avLst>
          </a:prstGeom>
          <a:ln w="31680">
            <a:solidFill>
              <a:srgbClr val="171796"/>
            </a:solidFill>
            <a:round/>
            <a:tailEnd len="med" type="triangle" w="med"/>
          </a:ln>
        </p:spPr>
      </p:cxnSp>
      <p:sp>
        <p:nvSpPr>
          <p:cNvPr id="1274" name="TextBox 66"/>
          <p:cNvSpPr/>
          <p:nvPr/>
        </p:nvSpPr>
        <p:spPr>
          <a:xfrm>
            <a:off x="5076720" y="6165720"/>
            <a:ext cx="3743280" cy="368280"/>
          </a:xfrm>
          <a:prstGeom prst="rect">
            <a:avLst/>
          </a:prstGeom>
          <a:solidFill>
            <a:srgbClr val="111171"/>
          </a:solidFill>
          <a:ln w="9360">
            <a:solidFill>
              <a:srgbClr val="111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pproval/Non Approval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Myriad Pro"/>
              </a:rPr>
              <a:t>Dossier content </a:t>
            </a:r>
            <a:r>
              <a:rPr b="1" lang="it-IT" sz="3200" spc="-1" strike="noStrike">
                <a:solidFill>
                  <a:srgbClr val="ffffff"/>
                </a:solidFill>
                <a:latin typeface="Myriad Pro"/>
              </a:rPr>
              <a:t>(Reg.1107/2009)</a:t>
            </a:r>
            <a:endParaRPr b="0" lang="en-US" sz="32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46836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Summary dossier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Complete dossier 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with full text of individual tests and study reports (studies involving deliberate administration to humans are not accepted)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In line with the data requirement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Scientific peer-reviewed open literature over the last 10 years (active substance &amp; metabolites)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	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	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	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3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277" name="Slide Number Placeholder 3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7AA7-CC2A-4168-B23B-0B4FD7698AE6}" type="slidenum">
              <a:rPr b="0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74995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Myriad Pro"/>
              </a:rPr>
              <a:t>Summary Dossier </a:t>
            </a:r>
            <a:r>
              <a:rPr b="1" lang="it-IT" sz="3200" spc="-1" strike="noStrike">
                <a:solidFill>
                  <a:srgbClr val="ffffff"/>
                </a:solidFill>
                <a:latin typeface="Myriad Pro"/>
              </a:rPr>
              <a:t>(Reg.1107/2009)</a:t>
            </a:r>
            <a:endParaRPr b="0" lang="en-US" sz="32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79" name=""/>
          <p:cNvSpPr txBox="1"/>
          <p:nvPr/>
        </p:nvSpPr>
        <p:spPr>
          <a:xfrm>
            <a:off x="539640" y="11970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Representative uses 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Summaries and results of tests and studies for each data requirement  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Vertebrate studies: justification on steps for avoiding animal testing and duplication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Checklist demonstrating completenes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When relevant copy of an Maximum Residue Levels (MRL) application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Assessment of the information submitted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	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	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1796"/>
              </a:solidFill>
              <a:latin typeface="Myriad Pro"/>
            </a:endParaRPr>
          </a:p>
          <a:p>
            <a:pPr lvl="1" indent="370080">
              <a:spcBef>
                <a:spcPts val="3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280" name="Slide Number Placeholder 3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7DE0-E65D-4BAC-BDF6-3321A49983A3}" type="slidenum">
              <a:rPr b="0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1" name="Picture 19" descr=""/>
          <p:cNvPicPr/>
          <p:nvPr/>
        </p:nvPicPr>
        <p:blipFill>
          <a:blip r:embed="rId1"/>
          <a:stretch/>
        </p:blipFill>
        <p:spPr>
          <a:xfrm>
            <a:off x="114480" y="1197000"/>
            <a:ext cx="9029520" cy="5249880"/>
          </a:xfrm>
          <a:prstGeom prst="rect">
            <a:avLst/>
          </a:prstGeom>
          <a:ln w="0">
            <a:noFill/>
          </a:ln>
        </p:spPr>
      </p:pic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74995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Myriad Pro"/>
              </a:rPr>
              <a:t>Summary  Study repor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83" name="Slide Number Placeholder 3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C8CB-FF10-4B32-81F1-2849943DCD61}" type="slidenum">
              <a:rPr b="0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84" name="TextBox 18"/>
          <p:cNvSpPr/>
          <p:nvPr/>
        </p:nvSpPr>
        <p:spPr>
          <a:xfrm>
            <a:off x="539640" y="1484280"/>
            <a:ext cx="1944720" cy="366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MATERIALS &amp; METHOD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with detailed descriptions of experimental conditions, compliance with test guidelines, deviations and justification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85" name="TextBox 19"/>
          <p:cNvSpPr/>
          <p:nvPr/>
        </p:nvSpPr>
        <p:spPr>
          <a:xfrm>
            <a:off x="2627280" y="2924280"/>
            <a:ext cx="1944720" cy="201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with detailed descriptions of the relevant experimental result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86" name="TextBox 20"/>
          <p:cNvSpPr/>
          <p:nvPr/>
        </p:nvSpPr>
        <p:spPr>
          <a:xfrm>
            <a:off x="5724360" y="1268280"/>
            <a:ext cx="2303640" cy="2562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TABULATED SUPPORTING INFORMATION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demonstrating compliance with test guidelines, deviations and justification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87" name="TextBox 21"/>
          <p:cNvSpPr/>
          <p:nvPr/>
        </p:nvSpPr>
        <p:spPr>
          <a:xfrm>
            <a:off x="5580000" y="3933720"/>
            <a:ext cx="3024360" cy="146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TABULATED KEY RESULT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with detailed description allowing verification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88" name="TextBox 22"/>
          <p:cNvSpPr/>
          <p:nvPr/>
        </p:nvSpPr>
        <p:spPr>
          <a:xfrm>
            <a:off x="5940360" y="5877000"/>
            <a:ext cx="2303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9" name="Picture 19" descr=""/>
          <p:cNvPicPr/>
          <p:nvPr/>
        </p:nvPicPr>
        <p:blipFill>
          <a:blip r:embed="rId1">
            <a:alphaModFix amt="56000"/>
          </a:blip>
          <a:stretch/>
        </p:blipFill>
        <p:spPr>
          <a:xfrm>
            <a:off x="114480" y="1197000"/>
            <a:ext cx="9029520" cy="524988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Myriad Pro"/>
              </a:rPr>
              <a:t>Draft Assessment Repor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468360" y="1483920"/>
            <a:ext cx="8229600" cy="4537080"/>
          </a:xfrm>
          <a:prstGeom prst="rect">
            <a:avLst/>
          </a:prstGeom>
          <a:solidFill>
            <a:srgbClr val="ccffff">
              <a:alpha val="64000"/>
            </a:srgbClr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1796"/>
                </a:solidFill>
                <a:latin typeface="Myriad Pro"/>
              </a:rPr>
              <a:t>Presents the risk assessment outcome from the rapporteur Member State (RMS)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5360" indent="-3153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1796"/>
                </a:solidFill>
                <a:latin typeface="Myriad Pro"/>
              </a:rPr>
              <a:t>Includes the summary study reports for each relevant study commented by the RM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5360" indent="-3153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1796"/>
                </a:solidFill>
                <a:latin typeface="Myriad Pro"/>
              </a:rPr>
              <a:t>Describes the risk assessment output and RMS comments for each endpoint 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5360" indent="-3153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1796"/>
                </a:solidFill>
                <a:latin typeface="Myriad Pro"/>
              </a:rPr>
              <a:t>Is published by EFSA for comment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5360" indent="-3153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1796"/>
                </a:solidFill>
                <a:latin typeface="Myriad Pro"/>
              </a:rPr>
              <a:t>Is updated with new information if relevan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Myriad Pro"/>
              </a:rPr>
              <a:t>	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683280" indent="-262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1796"/>
              </a:solidFill>
              <a:latin typeface="Myriad Pro"/>
            </a:endParaRPr>
          </a:p>
          <a:p>
            <a:pPr lvl="1" marL="683280" indent="-262800">
              <a:spcBef>
                <a:spcPts val="3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292" name="Slide Number Placeholder 3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5DDC-7870-4767-8A9C-37FD814FFD52}" type="slidenum">
              <a:rPr b="0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Myriad Pro"/>
              </a:rPr>
              <a:t>EFSA Conclusion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468000" y="1125360"/>
            <a:ext cx="583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Output of a scientific peer review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572040" indent="-21996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Identity and Phys/Chem propertie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572040" indent="-21996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Mammalian Toxicology &amp; Workers/bystander/residents risk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572040" indent="-21996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Residues &amp; Consumer risk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572040" indent="-21996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Environmental Fate and Behaviour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572040" indent="-21996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Ecotoxicology &amp; Ecosystem risk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263880" indent="-2638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Conducted by EFSA scientific staff and risk assessment experts from the Member State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63880" indent="-26388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The PPR Panel is not involved, except occasionally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</p:txBody>
      </p:sp>
      <p:pic>
        <p:nvPicPr>
          <p:cNvPr id="1295" name="Picture 2" descr=""/>
          <p:cNvPicPr/>
          <p:nvPr/>
        </p:nvPicPr>
        <p:blipFill>
          <a:blip r:embed="rId1"/>
          <a:stretch/>
        </p:blipFill>
        <p:spPr>
          <a:xfrm>
            <a:off x="6300720" y="4365720"/>
            <a:ext cx="1247760" cy="1727280"/>
          </a:xfrm>
          <a:prstGeom prst="rect">
            <a:avLst/>
          </a:prstGeom>
          <a:ln w="9360">
            <a:solidFill>
              <a:srgbClr val="0a0a43"/>
            </a:solidFill>
            <a:miter/>
          </a:ln>
        </p:spPr>
      </p:pic>
      <p:pic>
        <p:nvPicPr>
          <p:cNvPr id="1296" name="Picture 3" descr=""/>
          <p:cNvPicPr/>
          <p:nvPr/>
        </p:nvPicPr>
        <p:blipFill>
          <a:blip r:embed="rId2"/>
          <a:stretch/>
        </p:blipFill>
        <p:spPr>
          <a:xfrm>
            <a:off x="7596360" y="4365720"/>
            <a:ext cx="1207800" cy="1727280"/>
          </a:xfrm>
          <a:prstGeom prst="rect">
            <a:avLst/>
          </a:prstGeom>
          <a:ln w="9360">
            <a:solidFill>
              <a:srgbClr val="0a0a43"/>
            </a:solidFill>
            <a:miter/>
          </a:ln>
        </p:spPr>
      </p:pic>
      <p:pic>
        <p:nvPicPr>
          <p:cNvPr id="1297" name="Picture 4" descr=""/>
          <p:cNvPicPr/>
          <p:nvPr/>
        </p:nvPicPr>
        <p:blipFill>
          <a:blip r:embed="rId3"/>
          <a:stretch/>
        </p:blipFill>
        <p:spPr>
          <a:xfrm>
            <a:off x="6516720" y="1484280"/>
            <a:ext cx="2016000" cy="2825640"/>
          </a:xfrm>
          <a:prstGeom prst="rect">
            <a:avLst/>
          </a:prstGeom>
          <a:ln w="9360">
            <a:solidFill>
              <a:srgbClr val="0a0a4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EFSA conclusions overview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94 conclusions published since 1 January 2013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New active substances Reg. 188/2011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Confirmatory data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Art 21 and amendments of approval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New elements for 2014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First conclusions on AIR II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First conclusions on new actives Reg. 1107/2009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300" name="Slide Number Placeholder 4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F477-EEAA-45F0-83D8-A62F982BA18E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4"/>
          <p:cNvSpPr/>
          <p:nvPr/>
        </p:nvSpPr>
        <p:spPr>
          <a:xfrm>
            <a:off x="214200" y="214200"/>
            <a:ext cx="7094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Myriad Pro"/>
                <a:ea typeface="MS Pゴシック"/>
              </a:rPr>
              <a:t>Pesticides Unit. Regular activities</a:t>
            </a: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188" name="Straight Arrow Connector 13"/>
          <p:cNvCxnSpPr/>
          <p:nvPr/>
        </p:nvCxnSpPr>
        <p:spPr>
          <a:xfrm flipV="1">
            <a:off x="3851280" y="2348640"/>
            <a:ext cx="721440" cy="1044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arrow" w="med"/>
          </a:ln>
        </p:spPr>
      </p:cxnSp>
      <p:sp>
        <p:nvSpPr>
          <p:cNvPr id="1189" name="TextBox 12"/>
          <p:cNvSpPr/>
          <p:nvPr/>
        </p:nvSpPr>
        <p:spPr>
          <a:xfrm>
            <a:off x="468360" y="5661000"/>
            <a:ext cx="3382920" cy="64260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  <a:ea typeface="Arial"/>
              </a:rPr>
              <a:t>Maximum Residue Levels MRL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190" name="TextBox 17"/>
          <p:cNvSpPr/>
          <p:nvPr/>
        </p:nvSpPr>
        <p:spPr>
          <a:xfrm>
            <a:off x="4643280" y="5589720"/>
            <a:ext cx="3600720" cy="76716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Reasoned Opinion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Annual report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191" name="Straight Arrow Connector 18"/>
          <p:cNvCxnSpPr>
            <a:stCxn id="1189" idx="3"/>
            <a:endCxn id="1190" idx="1"/>
          </p:cNvCxnSpPr>
          <p:nvPr/>
        </p:nvCxnSpPr>
        <p:spPr>
          <a:xfrm flipV="1">
            <a:off x="3851280" y="5973120"/>
            <a:ext cx="792720" cy="1188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arrow" w="med"/>
          </a:ln>
        </p:spPr>
      </p:cxnSp>
      <p:sp>
        <p:nvSpPr>
          <p:cNvPr id="1192" name="TextBox 19"/>
          <p:cNvSpPr/>
          <p:nvPr/>
        </p:nvSpPr>
        <p:spPr>
          <a:xfrm>
            <a:off x="468360" y="1700280"/>
            <a:ext cx="3382920" cy="119124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  <a:ea typeface="Arial"/>
              </a:rPr>
              <a:t>Supports the Scientific Panel for pesticides PPR (Plant Protection Product and their Residues).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193" name="TextBox 20"/>
          <p:cNvSpPr/>
          <p:nvPr/>
        </p:nvSpPr>
        <p:spPr>
          <a:xfrm>
            <a:off x="4572000" y="1773360"/>
            <a:ext cx="3600360" cy="113544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Opinion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Guidance document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Ad-hoc mandate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194" name="TextBox 22"/>
          <p:cNvSpPr/>
          <p:nvPr/>
        </p:nvSpPr>
        <p:spPr>
          <a:xfrm>
            <a:off x="395280" y="3860640"/>
            <a:ext cx="3382920" cy="64260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  <a:ea typeface="Arial"/>
              </a:rPr>
              <a:t>Coordinates the Peer Review of active substance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195" name="TextBox 23"/>
          <p:cNvSpPr/>
          <p:nvPr/>
        </p:nvSpPr>
        <p:spPr>
          <a:xfrm>
            <a:off x="4572000" y="3500280"/>
            <a:ext cx="3600360" cy="131364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Provides </a:t>
            </a: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Conclusions</a:t>
            </a:r>
            <a:r>
              <a:rPr b="0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 for single active substances to support the EU decision-maker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196" name="Straight Arrow Connector 24"/>
          <p:cNvCxnSpPr>
            <a:stCxn id="1194" idx="3"/>
            <a:endCxn id="1195" idx="1"/>
          </p:cNvCxnSpPr>
          <p:nvPr/>
        </p:nvCxnSpPr>
        <p:spPr>
          <a:xfrm flipV="1">
            <a:off x="3777840" y="4161960"/>
            <a:ext cx="794520" cy="2304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Recent and ongoing activitie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468360" y="119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71796"/>
                </a:solidFill>
                <a:latin typeface="Myriad Pro"/>
              </a:rPr>
              <a:t>Selected examples:</a:t>
            </a:r>
            <a:endParaRPr b="0" lang="en-US" sz="36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General issue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Assessment of Endocrine Disruptor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Specific mandate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Risk of neonicotinoids and fipronil to bee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Revised assessment of chlorpyrifo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Microbial active substance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303" name="Slide Number Placeholder 4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0BC7-FD20-408F-977C-1ED761D204D7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Endocrine effect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53964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Based on the opinion of EFSA Scientific Committee opinion published in 2013, the assessment will focus on: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94840" indent="-29484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The four axes with available tests: oestrogen, androgen, thyroid or steroidogenesis (EATS)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94840" indent="-29484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94840" indent="-29484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The identification of additional concerns from relevant apical studies, information from the literature search, or other information source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306" name="Slide Number Placeholder 4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DC31-E8F2-4422-8783-4AF983DD0040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Slide Number Placeholder 3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EE00-768C-491F-9282-70E1F027BB54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308" name="Picture 4" descr=""/>
          <p:cNvPicPr/>
          <p:nvPr/>
        </p:nvPicPr>
        <p:blipFill>
          <a:blip r:embed="rId1"/>
          <a:stretch/>
        </p:blipFill>
        <p:spPr>
          <a:xfrm>
            <a:off x="179280" y="1285920"/>
            <a:ext cx="8734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Myriad Pro"/>
              </a:rPr>
              <a:t>EFSA Conclusions risk for Bees </a:t>
            </a:r>
            <a:r>
              <a:rPr b="0" lang="fr-FR" sz="2800" spc="-1" strike="noStrike">
                <a:solidFill>
                  <a:srgbClr val="ffffff"/>
                </a:solidFill>
                <a:latin typeface="Myriad Pro"/>
              </a:rPr>
              <a:t>(seed treatments, soil applications)</a:t>
            </a:r>
            <a:endParaRPr b="0" lang="en-US" sz="28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10" name="Slide Number Placeholder 3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993A-F8CE-4DF3-AFAA-10C22567AD61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311" name="Picture 2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2590560" cy="3706920"/>
          </a:xfrm>
          <a:prstGeom prst="rect">
            <a:avLst/>
          </a:prstGeom>
          <a:ln w="9360">
            <a:solidFill>
              <a:srgbClr val="141487"/>
            </a:solidFill>
            <a:miter/>
          </a:ln>
        </p:spPr>
      </p:pic>
      <p:pic>
        <p:nvPicPr>
          <p:cNvPr id="1312" name="Picture 4" descr=""/>
          <p:cNvPicPr/>
          <p:nvPr/>
        </p:nvPicPr>
        <p:blipFill>
          <a:blip r:embed="rId2"/>
          <a:stretch/>
        </p:blipFill>
        <p:spPr>
          <a:xfrm>
            <a:off x="1547640" y="1628640"/>
            <a:ext cx="2610000" cy="3673440"/>
          </a:xfrm>
          <a:prstGeom prst="rect">
            <a:avLst/>
          </a:prstGeom>
          <a:ln w="9360">
            <a:solidFill>
              <a:srgbClr val="141487"/>
            </a:solidFill>
            <a:miter/>
          </a:ln>
        </p:spPr>
      </p:pic>
      <p:pic>
        <p:nvPicPr>
          <p:cNvPr id="1313" name="Picture 5" descr=""/>
          <p:cNvPicPr/>
          <p:nvPr/>
        </p:nvPicPr>
        <p:blipFill>
          <a:blip r:embed="rId3"/>
          <a:stretch/>
        </p:blipFill>
        <p:spPr>
          <a:xfrm>
            <a:off x="2556000" y="1773360"/>
            <a:ext cx="2566800" cy="3646440"/>
          </a:xfrm>
          <a:prstGeom prst="rect">
            <a:avLst/>
          </a:prstGeom>
          <a:ln w="9360">
            <a:solidFill>
              <a:srgbClr val="141487"/>
            </a:solidFill>
            <a:miter/>
          </a:ln>
        </p:spPr>
      </p:pic>
      <p:sp>
        <p:nvSpPr>
          <p:cNvPr id="1314" name="TextBox 10"/>
          <p:cNvSpPr/>
          <p:nvPr/>
        </p:nvSpPr>
        <p:spPr>
          <a:xfrm>
            <a:off x="324000" y="5732640"/>
            <a:ext cx="62989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Arial"/>
                <a:ea typeface="Arial"/>
              </a:rPr>
              <a:t>Neonicotinoids:</a:t>
            </a:r>
            <a:r>
              <a:rPr b="0" lang="en-GB" sz="2400" spc="-1" strike="noStrike">
                <a:solidFill>
                  <a:srgbClr val="171796"/>
                </a:solidFill>
                <a:latin typeface="Arial"/>
                <a:ea typeface="Arial"/>
              </a:rPr>
              <a:t> Published 16 January 2013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Arial"/>
                <a:ea typeface="Arial"/>
              </a:rPr>
              <a:t>Fipronil</a:t>
            </a:r>
            <a:r>
              <a:rPr b="0" lang="en-GB" sz="2400" spc="-1" strike="noStrike">
                <a:solidFill>
                  <a:srgbClr val="171796"/>
                </a:solidFill>
                <a:latin typeface="Arial"/>
                <a:ea typeface="Arial"/>
              </a:rPr>
              <a:t>: Published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27 May 2013 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315" name="Picture 5" descr=""/>
          <p:cNvPicPr/>
          <p:nvPr/>
        </p:nvPicPr>
        <p:blipFill>
          <a:blip r:embed="rId4"/>
          <a:stretch/>
        </p:blipFill>
        <p:spPr>
          <a:xfrm>
            <a:off x="4356000" y="1989000"/>
            <a:ext cx="2567160" cy="3646800"/>
          </a:xfrm>
          <a:prstGeom prst="rect">
            <a:avLst/>
          </a:prstGeom>
          <a:ln w="9360">
            <a:solidFill>
              <a:srgbClr val="14148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72122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Myriad Pro"/>
              </a:rPr>
              <a:t>Result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17" name="Slide Number Placeholder 3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8D5E-E698-4EEE-829C-9B6C0D16A00D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graphicFrame>
        <p:nvGraphicFramePr>
          <p:cNvPr id="1318" name=""/>
          <p:cNvGraphicFramePr/>
          <p:nvPr/>
        </p:nvGraphicFramePr>
        <p:xfrm>
          <a:off x="179280" y="1628640"/>
          <a:ext cx="6264360" cy="5094360"/>
        </p:xfrm>
        <a:graphic>
          <a:graphicData uri="http://schemas.openxmlformats.org/drawingml/2006/table">
            <a:tbl>
              <a:tblPr/>
              <a:tblGrid>
                <a:gridCol w="1728720"/>
                <a:gridCol w="1403640"/>
                <a:gridCol w="1566720"/>
                <a:gridCol w="1565280"/>
              </a:tblGrid>
              <a:tr h="72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700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Myriad Pro"/>
                        </a:rPr>
                        <a:t>DUST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700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Myriad Pro"/>
                        </a:rPr>
                        <a:t>Pollen and Nectar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700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Myriad Pro"/>
                        </a:rPr>
                        <a:t>Guttation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700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71796"/>
                          </a:solidFill>
                          <a:latin typeface="Myriad Pro"/>
                        </a:rPr>
                        <a:t>Clothianidin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5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Maize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Cereals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OSR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5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OSR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5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f7f7f"/>
                          </a:solidFill>
                          <a:latin typeface="Myriad Pro"/>
                        </a:rPr>
                        <a:t>Not finalised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5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71796"/>
                          </a:solidFill>
                          <a:latin typeface="Myriad Pro"/>
                        </a:rPr>
                        <a:t>Imidacloprid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Maize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Cereals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OSR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Cotton 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OSR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Cotton 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Sunflower 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f7f7f"/>
                          </a:solidFill>
                          <a:latin typeface="Myriad Pro"/>
                        </a:rPr>
                        <a:t>Not finalised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be7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71796"/>
                          </a:solidFill>
                          <a:latin typeface="Myriad Pro"/>
                        </a:rPr>
                        <a:t>Thiamethoxam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5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Maize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Cereals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OSR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Cotton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5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f7f7f"/>
                          </a:solidFill>
                          <a:latin typeface="Myriad Pro"/>
                        </a:rPr>
                        <a:t>Not finalised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5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Maize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5cc"/>
                    </a:solidFill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71796"/>
                          </a:solidFill>
                          <a:latin typeface="Myriad Pro"/>
                        </a:rPr>
                        <a:t>Fipronil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Maize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f7f7f"/>
                          </a:solidFill>
                          <a:latin typeface="Myriad Pro"/>
                        </a:rPr>
                        <a:t>Not finalised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f7f7f"/>
                          </a:solidFill>
                          <a:latin typeface="Myriad Pro"/>
                        </a:rPr>
                        <a:t>Not finalised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be7"/>
                    </a:solidFill>
                  </a:tcPr>
                </a:tc>
              </a:tr>
            </a:tbl>
          </a:graphicData>
        </a:graphic>
      </p:graphicFrame>
      <p:sp>
        <p:nvSpPr>
          <p:cNvPr id="1319" name="Rectangle 4"/>
          <p:cNvSpPr/>
          <p:nvPr/>
        </p:nvSpPr>
        <p:spPr>
          <a:xfrm>
            <a:off x="6588000" y="2492280"/>
            <a:ext cx="2160720" cy="375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9a9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For many of the </a:t>
            </a: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authorised uses</a:t>
            </a:r>
            <a:r>
              <a:rPr b="0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 and </a:t>
            </a: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several aspects of the risk assessments </a:t>
            </a:r>
            <a:r>
              <a:rPr b="0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not enough data were available to finalise the evaluation or data were not sufficient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20" name="Rectangle 7"/>
          <p:cNvSpPr/>
          <p:nvPr/>
        </p:nvSpPr>
        <p:spPr>
          <a:xfrm>
            <a:off x="179280" y="112536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Risks identified (acute risks)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693396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Myriad Pro"/>
              </a:rPr>
              <a:t>Next step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22" name=""/>
          <p:cNvSpPr txBox="1"/>
          <p:nvPr/>
        </p:nvSpPr>
        <p:spPr>
          <a:xfrm>
            <a:off x="250920" y="1915920"/>
            <a:ext cx="874872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1717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Arial"/>
                <a:ea typeface="Arial"/>
              </a:rPr>
              <a:t>In June 2013, EFSA received a mandate to review the risk assessment for the PPPs applied as foliar spray, containing thiamethoxam, clothianidin and imidacloprid;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216000" indent="-216000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1717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Arial"/>
                <a:ea typeface="Arial"/>
              </a:rPr>
              <a:t>From February to May 2014, EFSA conducted a peer review of study protocol submitted by the companies; 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216000" indent="-216000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1717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Arial"/>
                <a:ea typeface="Arial"/>
              </a:rPr>
              <a:t>EFSA may be requested by the EC to review the new information.  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Chlorpyrifo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46836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1796"/>
                </a:solidFill>
                <a:latin typeface="Myriad Pro"/>
              </a:rPr>
              <a:t>Conclusion on the peer review of the pesticide human health risk assessment of the active substance chlorpyrifo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Published on 22 April 2014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Based on the use of the Red Blood Cell cholinesterase inhibition to derive the reference value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This approach was endorsed by the PPR Panel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Proposes new ADI and AOEL of 0.001 mg/kg bw per day, and an ARfD of 0.005 mg/kg bw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Recommends to set two separate residue definitions and to perform two separate consumer risk assessments, for chlorpyrifos and TCP respectively </a:t>
            </a:r>
            <a:r>
              <a:rPr b="0" lang="en-GB" sz="2400" spc="-1" strike="noStrike">
                <a:solidFill>
                  <a:srgbClr val="171796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 MRL setting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Microbial active substance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250920" y="134136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‘</a:t>
            </a:r>
            <a:r>
              <a:rPr b="1" lang="en-GB" sz="2800" spc="-1" strike="noStrike">
                <a:solidFill>
                  <a:srgbClr val="171796"/>
                </a:solidFill>
                <a:latin typeface="Myriad Pro"/>
              </a:rPr>
              <a:t>Active substances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’: </a:t>
            </a:r>
            <a:r>
              <a:rPr b="1" lang="en-GB" sz="2800" spc="-1" strike="noStrike">
                <a:solidFill>
                  <a:srgbClr val="171796"/>
                </a:solidFill>
                <a:latin typeface="Myriad Pro"/>
              </a:rPr>
              <a:t>substances, including micro-organisms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having general or specific action against harmful organisms or on plants, parts of plants or plant products.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660960" indent="-254160">
              <a:spcBef>
                <a:spcPts val="649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‘</a:t>
            </a: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substances’: </a:t>
            </a:r>
            <a:r>
              <a:rPr b="1" lang="en-GB" sz="2600" spc="-1" strike="noStrike">
                <a:solidFill>
                  <a:srgbClr val="171796"/>
                </a:solidFill>
                <a:latin typeface="Myriad Pro"/>
              </a:rPr>
              <a:t>chemical</a:t>
            </a: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 elements and their </a:t>
            </a:r>
            <a:r>
              <a:rPr b="1" lang="en-GB" sz="2600" spc="-1" strike="noStrike">
                <a:solidFill>
                  <a:srgbClr val="171796"/>
                </a:solidFill>
                <a:latin typeface="Myriad Pro"/>
              </a:rPr>
              <a:t>compounds</a:t>
            </a: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, as they </a:t>
            </a:r>
            <a:r>
              <a:rPr b="1" lang="en-GB" sz="2600" spc="-1" strike="noStrike">
                <a:solidFill>
                  <a:srgbClr val="171796"/>
                </a:solidFill>
                <a:latin typeface="Myriad Pro"/>
              </a:rPr>
              <a:t>occur naturally </a:t>
            </a: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or </a:t>
            </a:r>
            <a:r>
              <a:rPr b="1" lang="en-GB" sz="2600" spc="-1" strike="noStrike">
                <a:solidFill>
                  <a:srgbClr val="171796"/>
                </a:solidFill>
                <a:latin typeface="Myriad Pro"/>
              </a:rPr>
              <a:t>by manufacture</a:t>
            </a: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, including impurities from the manufacturing process</a:t>
            </a:r>
            <a:endParaRPr b="0" lang="en-US" sz="2600" spc="-1" strike="noStrike">
              <a:solidFill>
                <a:srgbClr val="171796"/>
              </a:solidFill>
              <a:latin typeface="Myriad Pro"/>
            </a:endParaRPr>
          </a:p>
          <a:p>
            <a:pPr lvl="1" marL="660960" indent="-254160">
              <a:spcBef>
                <a:spcPts val="649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‘</a:t>
            </a:r>
            <a:r>
              <a:rPr b="1" lang="en-GB" sz="2600" spc="-1" strike="noStrike">
                <a:solidFill>
                  <a:srgbClr val="171796"/>
                </a:solidFill>
                <a:latin typeface="Myriad Pro"/>
              </a:rPr>
              <a:t>micro-organisms</a:t>
            </a: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’: microbiological entity, including lower fungi and viruses, cellular or non-cellular, </a:t>
            </a:r>
            <a:r>
              <a:rPr b="1" lang="en-GB" sz="2600" spc="-1" strike="noStrike">
                <a:solidFill>
                  <a:srgbClr val="171796"/>
                </a:solidFill>
                <a:latin typeface="Myriad Pro"/>
              </a:rPr>
              <a:t>capable of replication </a:t>
            </a: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or of </a:t>
            </a:r>
            <a:r>
              <a:rPr b="1" lang="en-GB" sz="2600" spc="-1" strike="noStrike">
                <a:solidFill>
                  <a:srgbClr val="171796"/>
                </a:solidFill>
                <a:latin typeface="Myriad Pro"/>
              </a:rPr>
              <a:t>transferring genetic material</a:t>
            </a:r>
            <a:endParaRPr b="0" lang="en-US" sz="2600" spc="-1" strike="noStrike">
              <a:solidFill>
                <a:srgbClr val="171796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Risk assessment for active substance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28" name=""/>
          <p:cNvSpPr txBox="1"/>
          <p:nvPr/>
        </p:nvSpPr>
        <p:spPr>
          <a:xfrm>
            <a:off x="611280" y="119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Approval criteria for “active substances” (e.g. Annex II Reg. 1107/2009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Uniform principles (e.g. Reg. 546/2011)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Part 1. Chemical plant protection product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Part 2. plant protection products containing micro-organism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Data requirements (e.g. Reg. 283/2013)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Part A. Chemical active substance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Part B. Microorganisms including viruse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329" name="Slide Number Placeholder 4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B239-1367-4668-A18F-DA1311F8A277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30" name="Rounded Rectangle 5"/>
          <p:cNvSpPr/>
          <p:nvPr/>
        </p:nvSpPr>
        <p:spPr>
          <a:xfrm>
            <a:off x="611280" y="5373720"/>
            <a:ext cx="4321080" cy="1295280"/>
          </a:xfrm>
          <a:prstGeom prst="roundRect">
            <a:avLst>
              <a:gd name="adj" fmla="val 16667"/>
            </a:avLst>
          </a:prstGeom>
          <a:solidFill>
            <a:srgbClr val="de7008"/>
          </a:solidFill>
          <a:ln w="9360">
            <a:solidFill>
              <a:srgbClr val="1717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Chemical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71796"/>
                </a:solidFill>
                <a:latin typeface="Verdana"/>
              </a:rPr>
              <a:t>Semiochemicals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71796"/>
                </a:solidFill>
                <a:latin typeface="Verdana"/>
              </a:rPr>
              <a:t>Microbial toxins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71796"/>
                </a:solidFill>
                <a:latin typeface="Verdana"/>
              </a:rPr>
              <a:t>Inert microorganisms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31" name="Rounded Rectangle 6"/>
          <p:cNvSpPr/>
          <p:nvPr/>
        </p:nvSpPr>
        <p:spPr>
          <a:xfrm>
            <a:off x="5292720" y="5373720"/>
            <a:ext cx="3311640" cy="1368360"/>
          </a:xfrm>
          <a:prstGeom prst="roundRect">
            <a:avLst>
              <a:gd name="adj" fmla="val 16667"/>
            </a:avLst>
          </a:prstGeom>
          <a:solidFill>
            <a:srgbClr val="de7008"/>
          </a:solidFill>
          <a:ln w="9360">
            <a:solidFill>
              <a:srgbClr val="1717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Microbial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332" name="Picture 8" descr="https://dam.efsa.europa.eu/mediabin/PreviewImage.asp?type=4&amp;repoid=%7b3575ACE0-70DC-4DF9-BE50-4E465069D100%7d&amp;version=4&amp;validate=NLFPLGNSKJ&amp;md=12-2-20136-07-59PM"/>
          <p:cNvPicPr/>
          <p:nvPr/>
        </p:nvPicPr>
        <p:blipFill>
          <a:blip r:embed="rId1"/>
          <a:stretch/>
        </p:blipFill>
        <p:spPr>
          <a:xfrm>
            <a:off x="7380360" y="5516640"/>
            <a:ext cx="1079280" cy="108108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10" descr="https://dam.efsa.europa.eu/mediabin/PreviewImage.asp?type=4&amp;repoid=%7b54ADB5BA-6D01-4C3D-8F44-9F8277BF402E%7d&amp;version=6&amp;validate=NLFPLGNSKJ&amp;md=8-30-20134-39-41PM"/>
          <p:cNvPicPr/>
          <p:nvPr/>
        </p:nvPicPr>
        <p:blipFill>
          <a:blip r:embed="rId2"/>
          <a:stretch/>
        </p:blipFill>
        <p:spPr>
          <a:xfrm>
            <a:off x="3564000" y="5445000"/>
            <a:ext cx="12333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Microorganism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171796"/>
                </a:solidFill>
                <a:latin typeface="Myriad Pro"/>
              </a:rPr>
              <a:t>Bacillus pumilus strain QST 2808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field and greenhouse spraying application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171796"/>
                </a:solidFill>
                <a:latin typeface="Myriad Pro"/>
              </a:rPr>
              <a:t>Streptomyces lydicus WYEC 108: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high volume drench, via drip irrigation systems, seed treatmen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Zucchini yellow mosaic virus - weak strain (ZYMV-WK) applications by jet injection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…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336" name="TextBox 5"/>
          <p:cNvSpPr/>
          <p:nvPr/>
        </p:nvSpPr>
        <p:spPr>
          <a:xfrm>
            <a:off x="288720" y="126828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Arial"/>
                <a:ea typeface="Arial"/>
              </a:rPr>
              <a:t>Conclusions cover different taxa and application route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PPR Panel expertise 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17928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Twenty-one independent scientific experts, covering: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Chemical active substances</a:t>
            </a: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 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Microbiological active substances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Physical-chemical properties of pesticides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Methods of analysis</a:t>
            </a: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 of pesticides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Toxicology and regulatory toxicology</a:t>
            </a: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 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Non dietary exposure and risk assessment</a:t>
            </a: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 of pesticides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Dietary exposure and risk assessment of pesticides residues in food and feed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Environmental fate and behaviour</a:t>
            </a: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 of pesticides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Ecotoxicology</a:t>
            </a: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 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Ecology and population dynamics</a:t>
            </a: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 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Ecological/Environmental exposure and risk assessment</a:t>
            </a: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. 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99" name="Slide Number Placeholder 2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6CD2-4283-4535-ABEE-D371B8010C60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200" name="Picture 2" descr="C:\Program Files\Microsoft Office\MEDIA\CAGCAT10\j0233018.wmf"/>
          <p:cNvPicPr/>
          <p:nvPr/>
        </p:nvPicPr>
        <p:blipFill>
          <a:blip r:embed="rId1"/>
          <a:stretch/>
        </p:blipFill>
        <p:spPr>
          <a:xfrm>
            <a:off x="7020000" y="1341360"/>
            <a:ext cx="212400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Main basis for the conclusion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250920" y="1413000"/>
            <a:ext cx="880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Did not cause signs of toxicity, infectivity and pathogenicity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8960" indent="-3189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Due to lack of data on the potential production of toxins/metabolites of concern risk assessment cannot be finalised.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8960" indent="-318960">
              <a:spcBef>
                <a:spcPts val="24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71796"/>
              </a:solidFill>
              <a:latin typeface="Myriad Pro"/>
            </a:endParaRPr>
          </a:p>
          <a:p>
            <a:pPr marL="318960" indent="-3189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Potential risk of infecting and producing adverse effects in animal hosts and humans is low. 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8960" indent="-3189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Risk (effects and transmission) for non-target plants could not be finalise 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8960" indent="-318960">
              <a:spcBef>
                <a:spcPts val="3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1796"/>
              </a:solidFill>
              <a:latin typeface="Myriad Pro"/>
            </a:endParaRPr>
          </a:p>
          <a:p>
            <a:pPr marL="318960" indent="-3189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8960" indent="-3189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8960" indent="-3189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angle 2"/>
          <p:cNvSpPr/>
          <p:nvPr/>
        </p:nvSpPr>
        <p:spPr>
          <a:xfrm>
            <a:off x="395280" y="0"/>
            <a:ext cx="8424720" cy="64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yriad Pro"/>
              </a:rPr>
              <a:t>Data gaps / issues identified in EFSA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yriad Pro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yriad Pro"/>
              </a:rPr>
              <a:t>pesticide conclusions on microorganisms: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Methods for identify the strain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Interference 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on prescribed methods of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analysis for pathogens in drinking water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71796"/>
                </a:solidFill>
                <a:latin typeface="Myriad Pro"/>
              </a:rPr>
              <a:t> </a:t>
            </a:r>
            <a:endParaRPr b="0" lang="en-US" sz="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Relationships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(lack of) to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known pathogen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Competitiveness / multiplication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Transfer of genetic information to other species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(primary concern plasmids between bacteria species)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Capacity for producing metabolites 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including other strains of the species, conditions of production.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Production and levels of metabolites in environmental compartment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Ecotoxicity studies 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too short to conclude lack of pathogenicity or infectivity to non target specie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2"/>
          <p:cNvSpPr/>
          <p:nvPr/>
        </p:nvSpPr>
        <p:spPr>
          <a:xfrm>
            <a:off x="395280" y="260280"/>
            <a:ext cx="84978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yriad Pro"/>
              </a:rPr>
              <a:t>Peer reviewed scientific literature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Systematic review of the available literature 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for the organism strain and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metabolites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that the strain or species might produce,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following the EFSA guidance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May cover other strains of the same or related specie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When evidence is cited,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the paper should be included in the dossier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341" name="Straight Arrow Connector 10"/>
          <p:cNvCxnSpPr>
            <a:endCxn id="1342" idx="1"/>
          </p:cNvCxnSpPr>
          <p:nvPr/>
        </p:nvCxnSpPr>
        <p:spPr>
          <a:xfrm flipV="1">
            <a:off x="2123640" y="5748120"/>
            <a:ext cx="5256720" cy="57600"/>
          </a:xfrm>
          <a:prstGeom prst="straightConnector1">
            <a:avLst/>
          </a:prstGeom>
          <a:ln w="76320">
            <a:solidFill>
              <a:srgbClr val="171796"/>
            </a:solidFill>
            <a:miter/>
            <a:tailEnd len="med" type="triangle" w="med"/>
          </a:ln>
        </p:spPr>
      </p:cxnSp>
      <p:pic>
        <p:nvPicPr>
          <p:cNvPr id="1343" name="Picture 8" descr="https://dam.efsa.europa.eu/mediabin/PreviewImage.asp?type=4&amp;repoid=%7b3575ACE0-70DC-4DF9-BE50-4E465069D100%7d&amp;version=4&amp;validate=NLFPLGNSKJ&amp;md=12-2-20136-07-59PM"/>
          <p:cNvPicPr/>
          <p:nvPr/>
        </p:nvPicPr>
        <p:blipFill>
          <a:blip r:embed="rId1"/>
          <a:stretch/>
        </p:blipFill>
        <p:spPr>
          <a:xfrm>
            <a:off x="2484360" y="4869000"/>
            <a:ext cx="1081080" cy="1079280"/>
          </a:xfrm>
          <a:prstGeom prst="rect">
            <a:avLst/>
          </a:prstGeom>
          <a:ln w="0">
            <a:noFill/>
          </a:ln>
        </p:spPr>
      </p:pic>
      <p:pic>
        <p:nvPicPr>
          <p:cNvPr id="1344" name="Picture 10" descr="https://dam.efsa.europa.eu/mediabin/PreviewImage.asp?type=4&amp;repoid=%7b54ADB5BA-6D01-4C3D-8F44-9F8277BF402E%7d&amp;version=6&amp;validate=NLFPLGNSKJ&amp;md=8-30-20134-39-41PM"/>
          <p:cNvPicPr/>
          <p:nvPr/>
        </p:nvPicPr>
        <p:blipFill>
          <a:blip r:embed="rId2"/>
          <a:stretch/>
        </p:blipFill>
        <p:spPr>
          <a:xfrm>
            <a:off x="3780000" y="5516640"/>
            <a:ext cx="1015920" cy="1022400"/>
          </a:xfrm>
          <a:prstGeom prst="rect">
            <a:avLst/>
          </a:prstGeom>
          <a:ln w="0">
            <a:noFill/>
          </a:ln>
        </p:spPr>
      </p:pic>
      <p:pic>
        <p:nvPicPr>
          <p:cNvPr id="1345" name="Picture 6" descr="https://dam.efsa.europa.eu/mediabin/PreviewImage.asp?type=4&amp;repoid=%7bFC0615E1-6E08-4091-A6D9-C9955B9124EE%7d&amp;version=5&amp;validate=NLFPLGNSKJ&amp;md=11-29-20125-35-47PM"/>
          <p:cNvPicPr/>
          <p:nvPr/>
        </p:nvPicPr>
        <p:blipFill>
          <a:blip r:embed="rId3"/>
          <a:stretch/>
        </p:blipFill>
        <p:spPr>
          <a:xfrm>
            <a:off x="395280" y="5013360"/>
            <a:ext cx="1725480" cy="1152360"/>
          </a:xfrm>
          <a:prstGeom prst="rect">
            <a:avLst/>
          </a:prstGeom>
          <a:ln w="0">
            <a:noFill/>
          </a:ln>
        </p:spPr>
      </p:pic>
      <p:pic>
        <p:nvPicPr>
          <p:cNvPr id="1346" name="Picture 6" descr="https://dam.efsa.europa.eu/mediabin/PreviewImage.asp?type=4&amp;repoid=%7bFC706DC2-41FD-4DD0-830B-4E750A2B7E9C%7d&amp;version=1&amp;validate=NLFPLGNSKJ&amp;md=12-6-20132-31-33PM"/>
          <p:cNvPicPr/>
          <p:nvPr/>
        </p:nvPicPr>
        <p:blipFill>
          <a:blip r:embed="rId4"/>
          <a:stretch/>
        </p:blipFill>
        <p:spPr>
          <a:xfrm>
            <a:off x="5435640" y="4581360"/>
            <a:ext cx="1341360" cy="2006640"/>
          </a:xfrm>
          <a:prstGeom prst="rect">
            <a:avLst/>
          </a:prstGeom>
          <a:ln w="0">
            <a:noFill/>
          </a:ln>
        </p:spPr>
      </p:pic>
      <p:sp>
        <p:nvSpPr>
          <p:cNvPr id="1347" name="TextBox 11"/>
          <p:cNvSpPr/>
          <p:nvPr/>
        </p:nvSpPr>
        <p:spPr>
          <a:xfrm>
            <a:off x="553320" y="616572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RELEASE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48" name="TextBox 8"/>
          <p:cNvSpPr/>
          <p:nvPr/>
        </p:nvSpPr>
        <p:spPr>
          <a:xfrm>
            <a:off x="5691240" y="4724280"/>
            <a:ext cx="872640" cy="459720"/>
          </a:xfrm>
          <a:prstGeom prst="rect">
            <a:avLst/>
          </a:prstGeom>
          <a:solidFill>
            <a:srgbClr val="fbf1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FATE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49" name="TextBox 11"/>
          <p:cNvSpPr/>
          <p:nvPr/>
        </p:nvSpPr>
        <p:spPr>
          <a:xfrm>
            <a:off x="2411280" y="4365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 Narrow"/>
              </a:rPr>
              <a:t>HAZARD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50" name="TextBox 12"/>
          <p:cNvSpPr/>
          <p:nvPr/>
        </p:nvSpPr>
        <p:spPr>
          <a:xfrm>
            <a:off x="3708360" y="5013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 Narrow"/>
              </a:rPr>
              <a:t>HAZARD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51" name="TextBox 13"/>
          <p:cNvSpPr/>
          <p:nvPr/>
        </p:nvSpPr>
        <p:spPr>
          <a:xfrm>
            <a:off x="5435640" y="4076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 Narrow"/>
              </a:rPr>
              <a:t>HAZARD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352" name="Picture 10" descr="https://dam.efsa.europa.eu/mediabin/PreviewImage.asp?type=4&amp;repoid=%7b54ADB5BA-6D01-4C3D-8F44-9F8277BF402E%7d&amp;version=6&amp;validate=NLFPLGNSKJ&amp;md=8-30-20134-39-41PM"/>
          <p:cNvPicPr/>
          <p:nvPr/>
        </p:nvPicPr>
        <p:blipFill>
          <a:blip r:embed="rId5"/>
          <a:stretch/>
        </p:blipFill>
        <p:spPr>
          <a:xfrm rot="1999200">
            <a:off x="5579640" y="5670720"/>
            <a:ext cx="792360" cy="796680"/>
          </a:xfrm>
          <a:prstGeom prst="rect">
            <a:avLst/>
          </a:prstGeom>
          <a:ln w="0">
            <a:noFill/>
          </a:ln>
        </p:spPr>
      </p:pic>
      <p:sp>
        <p:nvSpPr>
          <p:cNvPr id="1342" name="TextBox 15"/>
          <p:cNvSpPr/>
          <p:nvPr/>
        </p:nvSpPr>
        <p:spPr>
          <a:xfrm>
            <a:off x="7494480" y="551664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RISK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693396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Myriad Pro"/>
              </a:rPr>
              <a:t>MRL reasoned opinions included in EFSA Conclusions</a:t>
            </a:r>
            <a:endParaRPr b="0" lang="en-US" sz="28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533520" y="1428840"/>
            <a:ext cx="832464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Myriad Pro"/>
              </a:rPr>
              <a:t>New Conclusion and LOEP template </a:t>
            </a: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will be as a stand-alone document containing </a:t>
            </a:r>
            <a:r>
              <a:rPr b="1" lang="en-GB" sz="2400" spc="-1" strike="noStrike">
                <a:solidFill>
                  <a:srgbClr val="171796"/>
                </a:solidFill>
                <a:latin typeface="Myriad Pro"/>
              </a:rPr>
              <a:t>also the information needed to provide the reasoned EFSA opinion on MRL proposals</a:t>
            </a: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.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322200" indent="-32220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322200" indent="-32220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Myriad Pro"/>
              </a:rPr>
              <a:t>MRL applications on import tolerances should not be assessed as long </a:t>
            </a: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as the documentation corresponding national legislation of the exporting country as not been submitted 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Myriad Pro"/>
              </a:rPr>
              <a:t>active substance effectively registered in the exporting country, and 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Myriad Pro"/>
              </a:rPr>
              <a:t>MRL published in the national legislation of the exporting country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22200" indent="-322200">
              <a:spcBef>
                <a:spcPts val="601"/>
              </a:spcBef>
              <a:buClr>
                <a:srgbClr val="ff0000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Rectangle 4"/>
          <p:cNvSpPr/>
          <p:nvPr/>
        </p:nvSpPr>
        <p:spPr>
          <a:xfrm>
            <a:off x="214200" y="214200"/>
            <a:ext cx="7094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Myriad Pro"/>
                <a:ea typeface="MS Pゴシック"/>
              </a:rPr>
              <a:t>Pesticides Unit. Regular activities</a:t>
            </a: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356" name="Straight Arrow Connector 13"/>
          <p:cNvCxnSpPr/>
          <p:nvPr/>
        </p:nvCxnSpPr>
        <p:spPr>
          <a:xfrm flipV="1">
            <a:off x="3851280" y="2348640"/>
            <a:ext cx="721440" cy="1044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arrow" w="med"/>
          </a:ln>
        </p:spPr>
      </p:cxnSp>
      <p:sp>
        <p:nvSpPr>
          <p:cNvPr id="1357" name="TextBox 12"/>
          <p:cNvSpPr/>
          <p:nvPr/>
        </p:nvSpPr>
        <p:spPr>
          <a:xfrm>
            <a:off x="468360" y="5661000"/>
            <a:ext cx="3382920" cy="64260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  <a:ea typeface="Arial"/>
              </a:rPr>
              <a:t>Maximum Residue Levels MRL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58" name="TextBox 17"/>
          <p:cNvSpPr/>
          <p:nvPr/>
        </p:nvSpPr>
        <p:spPr>
          <a:xfrm>
            <a:off x="4643280" y="5589720"/>
            <a:ext cx="3600720" cy="76716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Reasoned Opinion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Annual report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359" name="Straight Arrow Connector 18"/>
          <p:cNvCxnSpPr>
            <a:stCxn id="1357" idx="3"/>
            <a:endCxn id="1358" idx="1"/>
          </p:cNvCxnSpPr>
          <p:nvPr/>
        </p:nvCxnSpPr>
        <p:spPr>
          <a:xfrm flipV="1">
            <a:off x="3851280" y="5973120"/>
            <a:ext cx="792720" cy="1188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arrow" w="med"/>
          </a:ln>
        </p:spPr>
      </p:cxnSp>
      <p:sp>
        <p:nvSpPr>
          <p:cNvPr id="1360" name="TextBox 19"/>
          <p:cNvSpPr/>
          <p:nvPr/>
        </p:nvSpPr>
        <p:spPr>
          <a:xfrm>
            <a:off x="468360" y="1700280"/>
            <a:ext cx="3382920" cy="119124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6a6a6"/>
                </a:solidFill>
                <a:latin typeface="Arial"/>
                <a:ea typeface="Arial"/>
              </a:rPr>
              <a:t>Supports the Scientific Panel for pesticides PPR (Plant Protection Product and their Residues).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61" name="TextBox 20"/>
          <p:cNvSpPr/>
          <p:nvPr/>
        </p:nvSpPr>
        <p:spPr>
          <a:xfrm>
            <a:off x="4572000" y="1773360"/>
            <a:ext cx="3600360" cy="113544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a6a6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6a6a6"/>
                </a:solidFill>
                <a:latin typeface="Arial"/>
                <a:ea typeface="MS Pゴシック"/>
              </a:rPr>
              <a:t>Opinion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a6a6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6a6a6"/>
                </a:solidFill>
                <a:latin typeface="Arial"/>
                <a:ea typeface="MS Pゴシック"/>
              </a:rPr>
              <a:t>Guidance document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a6a6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6a6a6"/>
                </a:solidFill>
                <a:latin typeface="Arial"/>
                <a:ea typeface="MS Pゴシック"/>
              </a:rPr>
              <a:t>Ad-hoc mandate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62" name="TextBox 22"/>
          <p:cNvSpPr/>
          <p:nvPr/>
        </p:nvSpPr>
        <p:spPr>
          <a:xfrm>
            <a:off x="395280" y="3860640"/>
            <a:ext cx="3382920" cy="64260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6a6a6"/>
                </a:solidFill>
                <a:latin typeface="Arial"/>
                <a:ea typeface="Arial"/>
              </a:rPr>
              <a:t>Coordinates the Peer Review of active substance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63" name="TextBox 23"/>
          <p:cNvSpPr/>
          <p:nvPr/>
        </p:nvSpPr>
        <p:spPr>
          <a:xfrm>
            <a:off x="4572000" y="3573360"/>
            <a:ext cx="3600360" cy="119124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6a6a6"/>
                </a:solidFill>
                <a:latin typeface="Arial"/>
                <a:ea typeface="Arial"/>
              </a:rPr>
              <a:t>Provides Conclusions for single active substances to support the EU decision-maker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364" name="Straight Arrow Connector 24"/>
          <p:cNvCxnSpPr>
            <a:stCxn id="1362" idx="3"/>
            <a:endCxn id="1363" idx="1"/>
          </p:cNvCxnSpPr>
          <p:nvPr/>
        </p:nvCxnSpPr>
        <p:spPr>
          <a:xfrm flipV="1">
            <a:off x="3777840" y="4172760"/>
            <a:ext cx="794520" cy="1188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BE35-1A1E-4975-94DF-BF4F1920EF99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EU MRL legislation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533520" y="1268280"/>
            <a:ext cx="8229600" cy="482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0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Myriad Pro"/>
              </a:rPr>
              <a:t>Regulation (EC) No 396/2005 of the European Parliament and of the Council on maximum residue levels in or on food and feed of plant and animal origin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1796"/>
              </a:solidFill>
              <a:latin typeface="Myriad Pro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Procedure for MRL setting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Official control of MRLs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Definition of responsibilities (role of Member States, European Commission, European Food Safety Authority, manufacturer of pesticides, food business operator, etc.)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Annexes 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lvl="1" marL="594360" indent="-228600" algn="just">
              <a:lnSpc>
                <a:spcPct val="90000"/>
              </a:lnSpc>
              <a:spcBef>
                <a:spcPts val="400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71796"/>
                </a:solidFill>
                <a:latin typeface="Myriad Pro"/>
              </a:rPr>
              <a:t>Annex I: List of commodities for which MRLs are established</a:t>
            </a:r>
            <a:endParaRPr b="0" lang="en-US" sz="1600" spc="-1" strike="noStrike">
              <a:solidFill>
                <a:srgbClr val="171796"/>
              </a:solidFill>
              <a:latin typeface="Myriad Pro"/>
            </a:endParaRPr>
          </a:p>
          <a:p>
            <a:pPr lvl="1" marL="594360" indent="-228600" algn="just">
              <a:lnSpc>
                <a:spcPct val="90000"/>
              </a:lnSpc>
              <a:spcBef>
                <a:spcPts val="400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71796"/>
                </a:solidFill>
                <a:latin typeface="Myriad Pro"/>
              </a:rPr>
              <a:t>Annex II and Annex III: List of MRLs </a:t>
            </a:r>
            <a:endParaRPr b="0" lang="en-US" sz="1600" spc="-1" strike="noStrike">
              <a:solidFill>
                <a:srgbClr val="171796"/>
              </a:solidFill>
              <a:latin typeface="Myriad Pro"/>
            </a:endParaRPr>
          </a:p>
          <a:p>
            <a:pPr lvl="1" marL="594360" indent="-228600" algn="just">
              <a:lnSpc>
                <a:spcPct val="90000"/>
              </a:lnSpc>
              <a:spcBef>
                <a:spcPts val="400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71796"/>
                </a:solidFill>
                <a:latin typeface="Myriad Pro"/>
              </a:rPr>
              <a:t>Annex IV: Active substances exempted from setting MRLs</a:t>
            </a:r>
            <a:endParaRPr b="0" lang="en-US" sz="1600" spc="-1" strike="noStrike">
              <a:solidFill>
                <a:srgbClr val="171796"/>
              </a:solidFill>
              <a:latin typeface="Myriad Pro"/>
            </a:endParaRPr>
          </a:p>
          <a:p>
            <a:pPr lvl="1" marL="594360" indent="-228600" algn="just">
              <a:lnSpc>
                <a:spcPct val="90000"/>
              </a:lnSpc>
              <a:spcBef>
                <a:spcPts val="400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71796"/>
                </a:solidFill>
                <a:latin typeface="Myriad Pro"/>
              </a:rPr>
              <a:t>Annex V: specific LOQ values </a:t>
            </a:r>
            <a:endParaRPr b="0" lang="en-US" sz="1600" spc="-1" strike="noStrike">
              <a:solidFill>
                <a:srgbClr val="171796"/>
              </a:solidFill>
              <a:latin typeface="Myriad Pro"/>
            </a:endParaRPr>
          </a:p>
          <a:p>
            <a:pPr lvl="1" marL="594360" indent="-228600" algn="just">
              <a:lnSpc>
                <a:spcPct val="90000"/>
              </a:lnSpc>
              <a:spcBef>
                <a:spcPts val="400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71796"/>
                </a:solidFill>
                <a:latin typeface="Myriad Pro"/>
              </a:rPr>
              <a:t>Annex VI: processing factors</a:t>
            </a:r>
            <a:endParaRPr b="0" lang="en-US" sz="1600" spc="-1" strike="noStrike">
              <a:solidFill>
                <a:srgbClr val="171796"/>
              </a:solidFill>
              <a:latin typeface="Myriad Pro"/>
            </a:endParaRPr>
          </a:p>
          <a:p>
            <a:pPr lvl="1" marL="594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1796"/>
              </a:solidFill>
              <a:latin typeface="Myriad Pro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71796"/>
                </a:solidFill>
                <a:latin typeface="Myriad Pro"/>
              </a:rPr>
              <a:t>Basic regulation: </a:t>
            </a:r>
            <a:br>
              <a:rPr sz="1400"/>
            </a:br>
            <a:r>
              <a:rPr b="0" lang="en-GB" sz="1400" spc="-1" strike="noStrike">
                <a:solidFill>
                  <a:srgbClr val="171796"/>
                </a:solidFill>
                <a:latin typeface="Myriad Pro"/>
              </a:rPr>
              <a:t>http://eur-lex.europa.eu/LexUriServ/LexUriServ.do?uri=OJ:L:2005:070:0001:0016:EN:PDF</a:t>
            </a:r>
            <a:endParaRPr b="0" lang="en-US" sz="1400" spc="-1" strike="noStrike">
              <a:solidFill>
                <a:srgbClr val="171796"/>
              </a:solidFill>
              <a:latin typeface="Myriad Pro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171796"/>
              </a:solidFill>
              <a:latin typeface="Myriad Pro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1796"/>
              </a:solidFill>
              <a:latin typeface="Myriad Pro"/>
            </a:endParaRPr>
          </a:p>
          <a:p>
            <a:pPr lvl="1" marL="594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1796"/>
              </a:solidFill>
              <a:latin typeface="Myriad Pro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71796"/>
                </a:solidFill>
                <a:latin typeface="Myriad Pro"/>
              </a:rPr>
              <a:t> </a:t>
            </a:r>
            <a:endParaRPr b="0" lang="en-US" sz="1400" spc="-1" strike="noStrike">
              <a:solidFill>
                <a:srgbClr val="171796"/>
              </a:solidFill>
              <a:latin typeface="Myriad Pro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EFSA MRL reasoned opinion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69" name=""/>
          <p:cNvSpPr txBox="1"/>
          <p:nvPr/>
        </p:nvSpPr>
        <p:spPr>
          <a:xfrm>
            <a:off x="53964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About 50 RO/year reviewing MRLs for approved/non-approved active substances (Art 12 ROs)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About 60-70 RO/year new proposals and modifications of existing MR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Further details in a later presentation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Myriad Pro"/>
              </a:rPr>
              <a:t>Procedure for MRL setting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428400" y="1357200"/>
            <a:ext cx="853596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Initiated by PPP applicants, growers, importers, food producers, MSs,…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Includes a dossier with: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683280" indent="-26280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GAP (Good Agricultural Practice)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683280" indent="-26280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Residue data package (Annex II, chapter 6)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683280" indent="-26280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Toxicological data package (if no EU ADI/ARfD)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683280" indent="-26280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Analytical methods for monitoring/enforcement of MRL in the relevant crop (Annex II, chapter 4.2)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The Rapporteur MS produces an Evaluation Repor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EFSA scientific staff assess the information and conduct a consumers risk assessmen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Footer Placeholder 3"/>
          <p:cNvSpPr/>
          <p:nvPr/>
        </p:nvSpPr>
        <p:spPr>
          <a:xfrm>
            <a:off x="6134040" y="447840"/>
            <a:ext cx="25052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73" name="TextBox 5"/>
          <p:cNvSpPr/>
          <p:nvPr/>
        </p:nvSpPr>
        <p:spPr>
          <a:xfrm>
            <a:off x="4304880" y="3357720"/>
            <a:ext cx="294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71796"/>
                </a:solidFill>
                <a:latin typeface="Verdana"/>
              </a:rPr>
              <a:t>Thank You</a:t>
            </a:r>
            <a:endParaRPr b="0" lang="en-US" sz="44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1" name="Oval 11"/>
          <p:cNvGrpSpPr/>
          <p:nvPr/>
        </p:nvGrpSpPr>
        <p:grpSpPr>
          <a:xfrm>
            <a:off x="2639880" y="225360"/>
            <a:ext cx="3973680" cy="2262240"/>
            <a:chOff x="2639880" y="225360"/>
            <a:chExt cx="3973680" cy="2262240"/>
          </a:xfrm>
        </p:grpSpPr>
        <p:pic>
          <p:nvPicPr>
            <p:cNvPr id="1202" name="Oval 11" descr=""/>
            <p:cNvPicPr/>
            <p:nvPr/>
          </p:nvPicPr>
          <p:blipFill>
            <a:blip r:embed="rId1"/>
            <a:stretch/>
          </p:blipFill>
          <p:spPr>
            <a:xfrm>
              <a:off x="2639880" y="225360"/>
              <a:ext cx="397368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3" name=""/>
            <p:cNvSpPr/>
            <p:nvPr/>
          </p:nvSpPr>
          <p:spPr>
            <a:xfrm>
              <a:off x="3265560" y="574560"/>
              <a:ext cx="2727360" cy="15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71796"/>
                </a:solidFill>
                <a:latin typeface="Verdana"/>
              </a:endParaRPr>
            </a:p>
          </p:txBody>
        </p:sp>
      </p:grpSp>
      <p:grpSp>
        <p:nvGrpSpPr>
          <p:cNvPr id="1204" name="Oval 7"/>
          <p:cNvGrpSpPr/>
          <p:nvPr/>
        </p:nvGrpSpPr>
        <p:grpSpPr>
          <a:xfrm>
            <a:off x="731880" y="2548080"/>
            <a:ext cx="7759800" cy="4329000"/>
            <a:chOff x="731880" y="2548080"/>
            <a:chExt cx="7759800" cy="4329000"/>
          </a:xfrm>
        </p:grpSpPr>
        <p:pic>
          <p:nvPicPr>
            <p:cNvPr id="1205" name="Oval 7" descr=""/>
            <p:cNvPicPr/>
            <p:nvPr/>
          </p:nvPicPr>
          <p:blipFill>
            <a:blip r:embed="rId2"/>
            <a:stretch/>
          </p:blipFill>
          <p:spPr>
            <a:xfrm>
              <a:off x="731880" y="2548080"/>
              <a:ext cx="7759800" cy="43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6" name=""/>
            <p:cNvSpPr/>
            <p:nvPr/>
          </p:nvSpPr>
          <p:spPr>
            <a:xfrm>
              <a:off x="1886040" y="3198960"/>
              <a:ext cx="5454720" cy="30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71796"/>
                </a:solidFill>
                <a:latin typeface="Verdana"/>
              </a:endParaRPr>
            </a:p>
          </p:txBody>
        </p:sp>
      </p:grpSp>
      <p:sp>
        <p:nvSpPr>
          <p:cNvPr id="1207" name="Slide Number Placeholder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100F-A3C7-4284-9140-5E747C4BD393}" type="slidenum">
              <a:rPr b="0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208" name="Diagram 2" descr=""/>
          <p:cNvPicPr/>
          <p:nvPr/>
        </p:nvPicPr>
        <p:blipFill>
          <a:blip r:embed="rId3"/>
          <a:stretch/>
        </p:blipFill>
        <p:spPr>
          <a:xfrm>
            <a:off x="603360" y="1407960"/>
            <a:ext cx="8076960" cy="5053320"/>
          </a:xfrm>
          <a:prstGeom prst="rect">
            <a:avLst/>
          </a:prstGeom>
          <a:ln w="0">
            <a:noFill/>
          </a:ln>
        </p:spPr>
      </p:pic>
      <p:pic>
        <p:nvPicPr>
          <p:cNvPr id="1209" name="Picture 3" descr="C:\Documents and Settings\reichhe\Local Settings\Temporary Internet Files\Content.IE5\IWDBSYJ6\MC900384206[1].wmf"/>
          <p:cNvPicPr/>
          <p:nvPr/>
        </p:nvPicPr>
        <p:blipFill>
          <a:blip r:embed="rId4"/>
          <a:stretch/>
        </p:blipFill>
        <p:spPr>
          <a:xfrm>
            <a:off x="3286080" y="1428840"/>
            <a:ext cx="1300320" cy="1812960"/>
          </a:xfrm>
          <a:prstGeom prst="rect">
            <a:avLst/>
          </a:prstGeom>
          <a:ln w="0">
            <a:noFill/>
          </a:ln>
        </p:spPr>
      </p:pic>
      <p:sp>
        <p:nvSpPr>
          <p:cNvPr id="1210" name="TextBox 9"/>
          <p:cNvSpPr/>
          <p:nvPr/>
        </p:nvSpPr>
        <p:spPr>
          <a:xfrm>
            <a:off x="2843280" y="1125360"/>
            <a:ext cx="322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Verdana"/>
              </a:rPr>
              <a:t>Opinions &amp; Guidance document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11" name="TextBox 10"/>
          <p:cNvSpPr/>
          <p:nvPr/>
        </p:nvSpPr>
        <p:spPr>
          <a:xfrm>
            <a:off x="2627280" y="551664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cientific staff working with Member States expert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12" name="TextBox 12"/>
          <p:cNvSpPr/>
          <p:nvPr/>
        </p:nvSpPr>
        <p:spPr>
          <a:xfrm>
            <a:off x="2987640" y="6922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Verdana"/>
              </a:rPr>
              <a:t>PPR Panel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13" name="Rectangle 2"/>
          <p:cNvSpPr/>
          <p:nvPr/>
        </p:nvSpPr>
        <p:spPr>
          <a:xfrm>
            <a:off x="142920" y="142920"/>
            <a:ext cx="793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yriad Pro"/>
              </a:rPr>
              <a:t>Pesticides Unit</a:t>
            </a: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3"/>
          <p:cNvSpPr/>
          <p:nvPr/>
        </p:nvSpPr>
        <p:spPr>
          <a:xfrm>
            <a:off x="250920" y="1484280"/>
            <a:ext cx="85690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de7008"/>
                </a:solidFill>
                <a:uFillTx/>
                <a:latin typeface="Verdana"/>
                <a:hlinkClick r:id="rId1"/>
              </a:rPr>
              <a:t> Good modelling practice </a:t>
            </a:r>
            <a:r>
              <a:rPr b="0" lang="en-GB" sz="1600" spc="-1" strike="noStrike">
                <a:solidFill>
                  <a:srgbClr val="171796"/>
                </a:solidFill>
                <a:latin typeface="Verdana"/>
              </a:rPr>
              <a:t>7 March 2014 Scientific Opinion PPR Panel 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de7008"/>
                </a:solidFill>
                <a:uFillTx/>
                <a:latin typeface="Verdana"/>
                <a:hlinkClick r:id="rId2"/>
              </a:rPr>
              <a:t> Developmental neurotoxicity potential of acetamiprid and imidacloprid </a:t>
            </a:r>
            <a:r>
              <a:rPr b="0" lang="en-GB" sz="1600" spc="-1" strike="noStrike">
                <a:solidFill>
                  <a:srgbClr val="171796"/>
                </a:solidFill>
                <a:latin typeface="Verdana"/>
              </a:rPr>
              <a:t>17 December 2013 Scientific Opinion PPR Panel 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de7008"/>
                </a:solidFill>
                <a:uFillTx/>
                <a:latin typeface="Verdana"/>
                <a:hlinkClick r:id="rId3"/>
              </a:rPr>
              <a:t> Relevance of dissimilar mode of action </a:t>
            </a:r>
            <a:r>
              <a:rPr b="0" lang="en-GB" sz="1600" spc="-1" strike="noStrike">
                <a:solidFill>
                  <a:srgbClr val="171796"/>
                </a:solidFill>
                <a:latin typeface="Verdana"/>
              </a:rPr>
              <a:t>3 December 2013 Scientific Opinion PPR Panel 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Guidance on tiered risk assessment for edge-of-field surface water </a:t>
            </a:r>
            <a:r>
              <a:rPr b="0" lang="en-GB" sz="1600" spc="-1" strike="noStrike">
                <a:solidFill>
                  <a:srgbClr val="171796"/>
                </a:solidFill>
                <a:latin typeface="Verdana"/>
              </a:rPr>
              <a:t>18 July 2013 Guidance PPR Panel 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Cumulative Assessment Groups for Pesticides </a:t>
            </a:r>
            <a:r>
              <a:rPr b="0" lang="en-GB" sz="1600" spc="-1" strike="noStrike">
                <a:solidFill>
                  <a:srgbClr val="171796"/>
                </a:solidFill>
                <a:latin typeface="Verdana"/>
              </a:rPr>
              <a:t>12 July 2013 Scientific Opinion PPR Panel 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FOCUS groundwater: Assessment of Higher Tiers </a:t>
            </a:r>
            <a:r>
              <a:rPr b="0" lang="en-GB" sz="1600" spc="-1" strike="noStrike">
                <a:solidFill>
                  <a:srgbClr val="171796"/>
                </a:solidFill>
                <a:latin typeface="Verdana"/>
              </a:rPr>
              <a:t>28 June 2013 Scientific Opinion PPR Panel 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FOCUS groundwater: Assessment of Lower Tiers </a:t>
            </a:r>
            <a:r>
              <a:rPr b="0" lang="en-GB" sz="1600" spc="-1" strike="noStrike">
                <a:solidFill>
                  <a:srgbClr val="171796"/>
                </a:solidFill>
                <a:latin typeface="Verdana"/>
              </a:rPr>
              <a:t>27 February 2013 Scientific Opinion PPR Panel 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15" name="Rectangle 4"/>
          <p:cNvSpPr/>
          <p:nvPr/>
        </p:nvSpPr>
        <p:spPr>
          <a:xfrm>
            <a:off x="214200" y="214200"/>
            <a:ext cx="7094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Myriad Pro"/>
              </a:rPr>
              <a:t>PPR outputs 2013- </a:t>
            </a: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angle 3"/>
          <p:cNvSpPr/>
          <p:nvPr/>
        </p:nvSpPr>
        <p:spPr>
          <a:xfrm>
            <a:off x="250920" y="1268280"/>
            <a:ext cx="856908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Opinion addressing the state of the science on risk assessment for </a:t>
            </a: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non-target arthropod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Opinion addressing the state of the science on </a:t>
            </a: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in-soil risk assessment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Opinion addressing the state of the science on risk-assessment for </a:t>
            </a: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non-target terrestrial plant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Opinion addressing the state of the science on risk assessment for </a:t>
            </a: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amphibians and reptile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Opinion on the FERA guidance proposal “Guidance on how </a:t>
            </a: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aged sorption studies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for pesticides should be conducted, analysed and used in regulatory assessments” (FERA, 2012)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…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17" name="Rectangle 4"/>
          <p:cNvSpPr/>
          <p:nvPr/>
        </p:nvSpPr>
        <p:spPr>
          <a:xfrm>
            <a:off x="214200" y="214200"/>
            <a:ext cx="7094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Myriad Pro"/>
              </a:rPr>
              <a:t>PPR ongoing opinions</a:t>
            </a: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icture 14"/>
          <p:cNvSpPr/>
          <p:nvPr/>
        </p:nvSpPr>
        <p:spPr>
          <a:xfrm rot="5400000">
            <a:off x="5615640" y="2258280"/>
            <a:ext cx="2700360" cy="30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19" name="Rectangle 9"/>
          <p:cNvSpPr/>
          <p:nvPr/>
        </p:nvSpPr>
        <p:spPr>
          <a:xfrm>
            <a:off x="179280" y="1484280"/>
            <a:ext cx="896472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71796"/>
                </a:solidFill>
                <a:latin typeface="Myriad Pro"/>
              </a:rPr>
              <a:t>Development of a guidance document : typical sequence of events</a:t>
            </a: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 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Identification of a need / Drafting of a mandate 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 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Collection of data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 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Opinion of the PPR Panel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 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Establishment of a Working Group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 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Preparation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 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Consultations 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 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Adoption (or approval) of the Guidance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 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Entry into force 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20" name="Picture 4"/>
          <p:cNvSpPr/>
          <p:nvPr/>
        </p:nvSpPr>
        <p:spPr>
          <a:xfrm>
            <a:off x="5214960" y="3429000"/>
            <a:ext cx="345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Guidance document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PPR and guidance document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23" name="TextBox 7"/>
          <p:cNvSpPr/>
          <p:nvPr/>
        </p:nvSpPr>
        <p:spPr>
          <a:xfrm>
            <a:off x="2627280" y="177336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Scientific opinions: as starting point for further guidance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224" name="Elbow Connector 9"/>
          <p:cNvCxnSpPr/>
          <p:nvPr/>
        </p:nvCxnSpPr>
        <p:spPr>
          <a:xfrm>
            <a:off x="2556000" y="3429000"/>
            <a:ext cx="3745440" cy="1440360"/>
          </a:xfrm>
          <a:prstGeom prst="bentConnector3">
            <a:avLst>
              <a:gd name="adj1" fmla="val 58858"/>
            </a:avLst>
          </a:prstGeom>
          <a:ln w="76320">
            <a:solidFill>
              <a:srgbClr val="5050e4"/>
            </a:solidFill>
            <a:round/>
            <a:tailEnd len="med" type="triangle" w="med"/>
          </a:ln>
        </p:spPr>
      </p:cxnSp>
      <p:cxnSp>
        <p:nvCxnSpPr>
          <p:cNvPr id="1225" name="Straight Arrow Connector 13"/>
          <p:cNvCxnSpPr/>
          <p:nvPr/>
        </p:nvCxnSpPr>
        <p:spPr>
          <a:xfrm flipH="1">
            <a:off x="3131640" y="4868640"/>
            <a:ext cx="1728000" cy="1080"/>
          </a:xfrm>
          <a:prstGeom prst="straightConnector1">
            <a:avLst/>
          </a:prstGeom>
          <a:ln w="76320">
            <a:solidFill>
              <a:srgbClr val="5050e4"/>
            </a:solidFill>
            <a:miter/>
            <a:tailEnd len="med" type="triangle" w="med"/>
          </a:ln>
        </p:spPr>
      </p:cxnSp>
      <p:sp>
        <p:nvSpPr>
          <p:cNvPr id="1226" name="TextBox 17"/>
          <p:cNvSpPr/>
          <p:nvPr/>
        </p:nvSpPr>
        <p:spPr>
          <a:xfrm>
            <a:off x="3101040" y="5157720"/>
            <a:ext cx="1537200" cy="825480"/>
          </a:xfrm>
          <a:prstGeom prst="rect">
            <a:avLst/>
          </a:prstGeom>
          <a:noFill/>
          <a:ln w="38160">
            <a:solidFill>
              <a:srgbClr val="1717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PPR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Guidance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27" name="TextBox 18"/>
          <p:cNvSpPr/>
          <p:nvPr/>
        </p:nvSpPr>
        <p:spPr>
          <a:xfrm>
            <a:off x="4829040" y="5157720"/>
            <a:ext cx="1537200" cy="825480"/>
          </a:xfrm>
          <a:prstGeom prst="rect">
            <a:avLst/>
          </a:prstGeom>
          <a:noFill/>
          <a:ln w="38160">
            <a:solidFill>
              <a:srgbClr val="1717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EFSA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Guidance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228" name="Picture 12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7820280" cy="54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Protection goal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323640" y="1557000"/>
            <a:ext cx="8569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Based on the regulatory frame: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683280" indent="-26280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Approval criteria, data requirements, uniform principle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315360" indent="-3153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231" name="Slide Number Placeholder 2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E3C7-5CA4-40B4-AD4D-F31907E4C50F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232" name="Picture 2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76867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2T08:43:13Z</dcterms:created>
  <dc:creator>Geert Deveuster</dc:creator>
  <dc:description/>
  <cp:keywords/>
  <dc:language>en-US</dc:language>
  <cp:lastModifiedBy>Lythgo</cp:lastModifiedBy>
  <cp:lastPrinted>1904-01-01T00:00:00Z</cp:lastPrinted>
  <dcterms:modified xsi:type="dcterms:W3CDTF">2014-10-10T06:40:59Z</dcterms:modified>
  <cp:revision>1072</cp:revision>
  <dc:subject/>
  <dc:title>PowerPoint Presentation</dc:title>
</cp:coreProperties>
</file>